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6.jpeg" ContentType="image/jpeg"/>
  <Override PartName="/ppt/media/image22.jpeg" ContentType="image/jpeg"/>
  <Override PartName="/ppt/media/image3.png" ContentType="image/png"/>
  <Override PartName="/ppt/media/image27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28.png" ContentType="image/png"/>
  <Override PartName="/ppt/media/image5.png" ContentType="image/png"/>
  <Override PartName="/ppt/media/image30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jpeg" ContentType="image/jpeg"/>
  <Override PartName="/ppt/media/image20.jpeg" ContentType="image/jpeg"/>
  <Override PartName="/ppt/media/image19.png" ContentType="image/png"/>
  <Override PartName="/ppt/media/image12.png" ContentType="image/png"/>
  <Override PartName="/ppt/media/image23.jpeg" ContentType="image/jpeg"/>
  <Override PartName="/ppt/media/image2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CAA7-6EA6-410C-BACF-73314082A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DC41-6707-44B1-A26D-0BCD2E0B7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1182-5F3E-4BE0-9400-C162B5536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07C0-5AA6-4F18-B6D2-12C35CC19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B53E4-B0DE-4504-809B-749DFA215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4DD13-86F5-4409-8EEA-7334AC226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3F2C0-759A-49F4-8741-C7E1A93AE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F3878-E40F-4A9C-AD78-E3B00D513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88FE4-D31C-407C-934E-B18F0439A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A6CA5-97F5-4FAD-B33D-F36D218FE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938A5-6A38-492D-AE30-39708142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0668-2FD6-434D-9E24-8ED01BF5B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9C140-2F1C-4732-9ECA-C242BC28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BCFB7-4B86-4F5E-9373-60629F87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E23F6-61C0-4451-994B-E57A90178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BB977-F3E5-460D-8079-9D4C02A99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F0FFE-2968-47E3-9E4D-FF2836C08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0148-B268-45D2-BF61-679AC129F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EC94-F0F4-42C3-B0CA-FF0F44D4C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A731-0960-4CF1-8226-7A93BB0C1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51EA-151D-40B5-A01E-420E9B626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8748-C395-42A0-B505-DC25B831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40EC-657A-4A2C-98BF-815A6DA4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6580-C32F-4647-907D-54A2537B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0D0BF-82AB-4D09-BFC1-009FBF011B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1B5DF-29A5-4D34-88F5-E2B28DC9D5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" Target="slide14.xml"/><Relationship Id="rId5" Type="http://schemas.openxmlformats.org/officeDocument/2006/relationships/slide" Target="slide15.xml"/><Relationship Id="rId6" Type="http://schemas.openxmlformats.org/officeDocument/2006/relationships/slide" Target="slide16.xml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" Target="slide11.xml"/><Relationship Id="rId4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" Target="slide11.xml"/><Relationship Id="rId4" Type="http://schemas.openxmlformats.org/officeDocument/2006/relationships/slideLayout" Target="../slideLayouts/slideLayout1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7.xml"/><Relationship Id="rId3" Type="http://schemas.openxmlformats.org/officeDocument/2006/relationships/slide" Target="slide18.xml"/><Relationship Id="rId4" Type="http://schemas.openxmlformats.org/officeDocument/2006/relationships/slide" Target="slide19.xml"/><Relationship Id="rId5" Type="http://schemas.openxmlformats.org/officeDocument/2006/relationships/slide" Target="slide20.xml"/><Relationship Id="rId6" Type="http://schemas.openxmlformats.org/officeDocument/2006/relationships/slide" Target="slide21.xml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6.xml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" Target="slide16.xml"/><Relationship Id="rId5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" Target="slide16.xml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3.xml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" Target="slide16.xml"/><Relationship Id="rId5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" Target="slide23.xml"/><Relationship Id="rId4" Type="http://schemas.openxmlformats.org/officeDocument/2006/relationships/slide" Target="slide24.xml"/><Relationship Id="rId5" Type="http://schemas.openxmlformats.org/officeDocument/2006/relationships/slide" Target="slide25.xml"/><Relationship Id="rId6" Type="http://schemas.openxmlformats.org/officeDocument/2006/relationships/slide" Target="slide26.xml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" Target="slide21.xml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" Target="slide21.xm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" Target="slide21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slide" Target="slide21.xml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7.xml"/><Relationship Id="rId3" Type="http://schemas.openxmlformats.org/officeDocument/2006/relationships/slide" Target="slide28.xml"/><Relationship Id="rId4" Type="http://schemas.openxmlformats.org/officeDocument/2006/relationships/slide" Target="slide29.xml"/><Relationship Id="rId5" Type="http://schemas.openxmlformats.org/officeDocument/2006/relationships/slide" Target="slide30.xml"/><Relationship Id="rId6" Type="http://schemas.openxmlformats.org/officeDocument/2006/relationships/slide" Target="slide31.xml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" Target="slide26.xml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" Target="slide26.xml"/><Relationship Id="rId4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" Target="slide26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" Target="slide26.xml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2.xml"/><Relationship Id="rId3" Type="http://schemas.openxmlformats.org/officeDocument/2006/relationships/slide" Target="slide33.xml"/><Relationship Id="rId4" Type="http://schemas.openxmlformats.org/officeDocument/2006/relationships/slide" Target="slide34.xml"/><Relationship Id="rId5" Type="http://schemas.openxmlformats.org/officeDocument/2006/relationships/slide" Target="slide35.xml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" Target="slide31.xml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" Target="slide31.xml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slide" Target="slide31.xml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slide" Target="slide31.xml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hyperlink" Target="http://krasdo.ucoz.ru/ee383358c499.png" TargetMode="External"/><Relationship Id="rId4" Type="http://schemas.openxmlformats.org/officeDocument/2006/relationships/hyperlink" Target="http://www.grafamania.net/uploads/posts/2008-08/1219611582_7.jpg" TargetMode="External"/><Relationship Id="rId5" Type="http://schemas.openxmlformats.org/officeDocument/2006/relationships/hyperlink" Target="http://meddoct.ru/tag/aktg/" TargetMode="External"/><Relationship Id="rId6" Type="http://schemas.openxmlformats.org/officeDocument/2006/relationships/hyperlink" Target="http://rafaelbotello.es/mc-pituitary-glands-of-frog/" TargetMode="External"/><Relationship Id="rId7" Type="http://schemas.openxmlformats.org/officeDocument/2006/relationships/hyperlink" Target="http://www.hinsdale86.org/staff/kgabric/Disease09/Scales.Boling.Kallmann%20Syndrome/visualrepresentations.htm" TargetMode="External"/><Relationship Id="rId8" Type="http://schemas.openxmlformats.org/officeDocument/2006/relationships/hyperlink" Target="http://humming-carabus.livejournal.com/60869.html" TargetMode="External"/><Relationship Id="rId9" Type="http://schemas.openxmlformats.org/officeDocument/2006/relationships/hyperlink" Target="http://humming-carabus.livejournal.com/60869.html" TargetMode="External"/><Relationship Id="rId10" Type="http://schemas.openxmlformats.org/officeDocument/2006/relationships/hyperlink" Target="http://humming-carabus.livejournal.com/60869.html" TargetMode="External"/><Relationship Id="rId11" Type="http://schemas.openxmlformats.org/officeDocument/2006/relationships/hyperlink" Target="http://humming-carabus.livejournal.com/60869.html" TargetMode="External"/><Relationship Id="rId12" Type="http://schemas.openxmlformats.org/officeDocument/2006/relationships/image" Target="../media/image31.png"/><Relationship Id="rId13" Type="http://schemas.openxmlformats.org/officeDocument/2006/relationships/image" Target="../media/image32.png"/><Relationship Id="rId1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learn-another-language.org/3561.html" TargetMode="External"/><Relationship Id="rId3" Type="http://schemas.openxmlformats.org/officeDocument/2006/relationships/hyperlink" Target="http://doctor24.com.ua/217095658/" TargetMode="External"/><Relationship Id="rId4" Type="http://schemas.openxmlformats.org/officeDocument/2006/relationships/hyperlink" Target="http://kakulia.okis.ru/foto.65583.html" TargetMode="External"/><Relationship Id="rId5" Type="http://schemas.openxmlformats.org/officeDocument/2006/relationships/hyperlink" Target="http://www.medical-guru.ru/schitovidnaya-jeleza/1871-morfologicheskie_priznaki_bazedovifikacii_2.html" TargetMode="External"/><Relationship Id="rId6" Type="http://schemas.openxmlformats.org/officeDocument/2006/relationships/hyperlink" Target="http://www.medical-guru.ru/schitovidnaya-jeleza/1871-morfologicheskie_priznaki_bazedovifikacii_2.html" TargetMode="External"/><Relationship Id="rId7" Type="http://schemas.openxmlformats.org/officeDocument/2006/relationships/hyperlink" Target="http://www.medical-guru.ru/schitovidnaya-jeleza/1871-morfologicheskie_priznaki_bazedovifikacii_2.html" TargetMode="External"/><Relationship Id="rId8" Type="http://schemas.openxmlformats.org/officeDocument/2006/relationships/hyperlink" Target="http://www.medical-guru.ru/schitovidnaya-jeleza/1871-morfologicheskie_priznaki_bazedovifikacii_2.html" TargetMode="External"/><Relationship Id="rId9" Type="http://schemas.openxmlformats.org/officeDocument/2006/relationships/hyperlink" Target="http://www.medical-guru.ru/schitovidnaya-jeleza/1871-morfologicheskie_priznaki_bazedovifikacii_2.html" TargetMode="External"/><Relationship Id="rId10" Type="http://schemas.openxmlformats.org/officeDocument/2006/relationships/hyperlink" Target="http://www.medical-guru.ru/schitovidnaya-jeleza/1871-morfologicheskie_priznaki_bazedovifikacii_2.html" TargetMode="External"/><Relationship Id="rId1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0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763280" y="3428640"/>
            <a:ext cx="545148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6228"/>
                </a:solidFill>
                <a:latin typeface="Calibri"/>
              </a:rPr>
              <a:t>Автор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6228"/>
                </a:solidFill>
                <a:latin typeface="Arial"/>
              </a:rPr>
              <a:t>Галковская </a:t>
            </a:r>
            <a:r>
              <a:rPr b="1" lang="en-US" sz="2400" spc="-1" strike="noStrike">
                <a:solidFill>
                  <a:srgbClr val="4f6228"/>
                </a:solidFill>
                <a:latin typeface="Calibri"/>
              </a:rPr>
              <a:t>Ирина </a:t>
            </a:r>
            <a:r>
              <a:rPr b="1" lang="en-US" sz="2400" spc="-1" strike="noStrike">
                <a:solidFill>
                  <a:srgbClr val="4f6228"/>
                </a:solidFill>
                <a:latin typeface="Arial"/>
              </a:rPr>
              <a:t>Ивановна </a:t>
            </a:r>
            <a:r>
              <a:rPr b="1" lang="en-US" sz="2400" spc="-1" strike="noStrike">
                <a:solidFill>
                  <a:srgbClr val="4f6228"/>
                </a:solidFill>
                <a:latin typeface="Calibri"/>
              </a:rPr>
              <a:t>учитель </a:t>
            </a:r>
            <a:r>
              <a:rPr b="1" lang="en-US" sz="2400" spc="-1" strike="noStrike">
                <a:solidFill>
                  <a:srgbClr val="4f6228"/>
                </a:solidFill>
                <a:latin typeface="Arial"/>
              </a:rPr>
              <a:t>биологии </a:t>
            </a:r>
            <a:r>
              <a:rPr b="1" lang="en-US" sz="2400" spc="-1" strike="noStrike">
                <a:solidFill>
                  <a:srgbClr val="4f6228"/>
                </a:solidFill>
                <a:latin typeface="Calibri"/>
              </a:rPr>
              <a:t>МОУ «П</a:t>
            </a:r>
            <a:r>
              <a:rPr b="1" lang="en-US" sz="2400" spc="-1" strike="noStrike">
                <a:solidFill>
                  <a:srgbClr val="4f6228"/>
                </a:solidFill>
                <a:latin typeface="Arial"/>
              </a:rPr>
              <a:t>етровская СОШ Урюпинский район Волгоградская обла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6228"/>
                </a:solidFill>
                <a:latin typeface="Arial"/>
              </a:rPr>
              <a:t>2011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826920" y="1628640"/>
            <a:ext cx="715356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eece1"/>
                    </a:gs>
                    <a:gs pos="100000">
                      <a:srgbClr val="6d6c67"/>
                    </a:gs>
                  </a:gsLst>
                  <a:path path="rect">
                    <a:fillToRect l="50000" t="50000" r="50000" b="50000"/>
                  </a:path>
                </a:gradFill>
                <a:latin typeface="Arial"/>
              </a:rPr>
              <a:t>Тренажер для 8 класс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eece1"/>
                  </a:gs>
                  <a:gs pos="100000">
                    <a:srgbClr val="6d6c67"/>
                  </a:gs>
                </a:gsLst>
                <a:path path="rect">
                  <a:fillToRect l="50000" t="50000" r="50000" b="50000"/>
                </a:path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eece1"/>
                    </a:gs>
                    <a:gs pos="100000">
                      <a:srgbClr val="6d6c67"/>
                    </a:gs>
                  </a:gsLst>
                  <a:path path="rect">
                    <a:fillToRect l="50000" t="50000" r="50000" b="50000"/>
                  </a:path>
                </a:gradFill>
                <a:latin typeface="Arial"/>
              </a:rPr>
              <a:t>"Железы организма человека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eece1"/>
                  </a:gs>
                  <a:gs pos="100000">
                    <a:srgbClr val="6d6c67"/>
                  </a:gs>
                </a:gsLst>
                <a:path path="rect">
                  <a:fillToRect l="50000" t="50000" r="50000" b="50000"/>
                </a:path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ременная жел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елтое тело 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временная железа внутренней секреции, развивающаяся в яичнике млекопитающих после овуляции и вырабатывающая гормоны (главным образом прогестерон). Образуется на месте фолликула под действием  гормона гипофиза. Представляет собой многослойную массу изменённых фолликулярных,  клеток, в которую врастают кровеносные капилляры. Продолжительность функции желтого тела различна у разных групп животных. У человека желтое тело рассасывается после 6 месяцев беременнос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>
            <a:hlinkClick r:id="rId2" action="ppaction://hlinksldjump"/>
          </p:cNvPr>
          <p:cNvSpPr/>
          <p:nvPr/>
        </p:nvSpPr>
        <p:spPr>
          <a:xfrm>
            <a:off x="8244000" y="5805360"/>
            <a:ext cx="684000" cy="682920"/>
          </a:xfrm>
          <a:custGeom>
            <a:avLst/>
            <a:gdLst>
              <a:gd name="textAreaLeft" fmla="*/ 44280 w 684000"/>
              <a:gd name="textAreaRight" fmla="*/ 639720 w 684000"/>
              <a:gd name="textAreaTop" fmla="*/ 44280 h 682920"/>
              <a:gd name="textAreaBottom" fmla="*/ 638640 h 682920"/>
            </a:gdLst>
            <a:ahLst/>
            <a:rect l="textAreaLeft" t="textAreaTop" r="textAreaRight" b="textAreaBottom"/>
            <a:pathLst>
              <a:path w="21634" h="21600">
                <a:moveTo>
                  <a:pt x="0" y="0"/>
                </a:moveTo>
                <a:lnTo>
                  <a:pt x="21634" y="0"/>
                </a:lnTo>
                <a:lnTo>
                  <a:pt x="21634" y="21600"/>
                </a:lnTo>
                <a:lnTo>
                  <a:pt x="0" y="21600"/>
                </a:lnTo>
                <a:close/>
              </a:path>
              <a:path fill="lightenLess" w="21634" h="21600">
                <a:moveTo>
                  <a:pt x="0" y="0"/>
                </a:moveTo>
                <a:lnTo>
                  <a:pt x="21634" y="0"/>
                </a:lnTo>
                <a:lnTo>
                  <a:pt x="20234" y="1400"/>
                </a:lnTo>
                <a:lnTo>
                  <a:pt x="1400" y="1400"/>
                </a:lnTo>
                <a:close/>
              </a:path>
              <a:path fill="darken" w="21634" h="21600">
                <a:moveTo>
                  <a:pt x="21634" y="0"/>
                </a:moveTo>
                <a:lnTo>
                  <a:pt x="21634" y="21600"/>
                </a:lnTo>
                <a:lnTo>
                  <a:pt x="20234" y="20200"/>
                </a:lnTo>
                <a:lnTo>
                  <a:pt x="20234" y="1400"/>
                </a:lnTo>
                <a:close/>
              </a:path>
              <a:path fill="darkenLess" w="21634" h="21600">
                <a:moveTo>
                  <a:pt x="21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4" y="20200"/>
                </a:lnTo>
                <a:close/>
              </a:path>
              <a:path fill="lighten" w="21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4" h="21600">
                <a:moveTo>
                  <a:pt x="3811" y="10800"/>
                </a:moveTo>
                <a:lnTo>
                  <a:pt x="17824" y="3794"/>
                </a:lnTo>
                <a:lnTo>
                  <a:pt x="17824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ая из желез внутренней секреции управляет всеми гормональными процессами организм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/>
          <p:nvPr/>
        </p:nvSpPr>
        <p:spPr>
          <a:xfrm>
            <a:off x="1968120" y="3108240"/>
            <a:ext cx="355500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Щитовидная желе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68840" y="3828960"/>
            <a:ext cx="254736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дпочеч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69200" y="4549680"/>
            <a:ext cx="414000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желудочная желе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038680" y="5342040"/>
            <a:ext cx="161496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ипоф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909840" y="465300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84640" y="386064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884640" y="306864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948360" y="5348160"/>
            <a:ext cx="1222560" cy="520560"/>
          </a:xfrm>
          <a:prstGeom prst="rect">
            <a:avLst/>
          </a:prstGeom>
          <a:gradFill rotWithShape="0">
            <a:gsLst>
              <a:gs pos="0">
                <a:srgbClr val="5e7359"/>
              </a:gs>
              <a:gs pos="50000">
                <a:srgbClr val="cdfac2"/>
              </a:gs>
              <a:gs pos="100000">
                <a:srgbClr val="5e735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>
            <a:hlinkClick r:id="rId2" action="ppaction://hlinksldjump"/>
          </p:cNvPr>
          <p:cNvSpPr/>
          <p:nvPr/>
        </p:nvSpPr>
        <p:spPr>
          <a:xfrm>
            <a:off x="900000" y="3068640"/>
            <a:ext cx="647640" cy="539640"/>
          </a:xfrm>
          <a:custGeom>
            <a:avLst/>
            <a:gdLst>
              <a:gd name="textAreaLeft" fmla="*/ 34920 w 647640"/>
              <a:gd name="textAreaRight" fmla="*/ 612720 w 647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5920" h="21600">
                <a:moveTo>
                  <a:pt x="0" y="0"/>
                </a:moveTo>
                <a:lnTo>
                  <a:pt x="25920" y="0"/>
                </a:lnTo>
                <a:lnTo>
                  <a:pt x="25920" y="21600"/>
                </a:lnTo>
                <a:lnTo>
                  <a:pt x="0" y="21600"/>
                </a:lnTo>
                <a:close/>
              </a:path>
              <a:path fill="lightenLess" w="25920" h="21600">
                <a:moveTo>
                  <a:pt x="0" y="0"/>
                </a:moveTo>
                <a:lnTo>
                  <a:pt x="25920" y="0"/>
                </a:lnTo>
                <a:lnTo>
                  <a:pt x="24520" y="1400"/>
                </a:lnTo>
                <a:lnTo>
                  <a:pt x="1400" y="1400"/>
                </a:lnTo>
                <a:close/>
              </a:path>
              <a:path fill="darken" w="25920" h="21600">
                <a:moveTo>
                  <a:pt x="25920" y="0"/>
                </a:moveTo>
                <a:lnTo>
                  <a:pt x="25920" y="21600"/>
                </a:lnTo>
                <a:lnTo>
                  <a:pt x="24520" y="20200"/>
                </a:lnTo>
                <a:lnTo>
                  <a:pt x="24520" y="1400"/>
                </a:lnTo>
                <a:close/>
              </a:path>
              <a:path fill="darkenLess" w="25920" h="21600">
                <a:moveTo>
                  <a:pt x="25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0" y="20200"/>
                </a:lnTo>
                <a:close/>
              </a:path>
              <a:path fill="lighten" w="25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rId3" action="ppaction://hlinksldjump"/>
          </p:cNvPr>
          <p:cNvSpPr/>
          <p:nvPr/>
        </p:nvSpPr>
        <p:spPr>
          <a:xfrm>
            <a:off x="900000" y="3789360"/>
            <a:ext cx="682560" cy="611280"/>
          </a:xfrm>
          <a:custGeom>
            <a:avLst/>
            <a:gdLst>
              <a:gd name="textAreaLeft" fmla="*/ 39600 w 682560"/>
              <a:gd name="textAreaRight" fmla="*/ 642960 w 68256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4117" h="21600">
                <a:moveTo>
                  <a:pt x="0" y="0"/>
                </a:moveTo>
                <a:lnTo>
                  <a:pt x="24117" y="0"/>
                </a:lnTo>
                <a:lnTo>
                  <a:pt x="24117" y="21600"/>
                </a:lnTo>
                <a:lnTo>
                  <a:pt x="0" y="21600"/>
                </a:lnTo>
                <a:close/>
              </a:path>
              <a:path fill="lightenLess" w="24117" h="21600">
                <a:moveTo>
                  <a:pt x="0" y="0"/>
                </a:moveTo>
                <a:lnTo>
                  <a:pt x="24117" y="0"/>
                </a:lnTo>
                <a:lnTo>
                  <a:pt x="22717" y="1400"/>
                </a:lnTo>
                <a:lnTo>
                  <a:pt x="1400" y="1400"/>
                </a:lnTo>
                <a:close/>
              </a:path>
              <a:path fill="darken" w="24117" h="21600">
                <a:moveTo>
                  <a:pt x="24117" y="0"/>
                </a:moveTo>
                <a:lnTo>
                  <a:pt x="24117" y="21600"/>
                </a:lnTo>
                <a:lnTo>
                  <a:pt x="22717" y="20200"/>
                </a:lnTo>
                <a:lnTo>
                  <a:pt x="22717" y="1400"/>
                </a:lnTo>
                <a:close/>
              </a:path>
              <a:path fill="darkenLess" w="24117" h="21600">
                <a:moveTo>
                  <a:pt x="24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17" y="20200"/>
                </a:lnTo>
                <a:close/>
              </a:path>
              <a:path fill="lighten" w="24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>
            <a:hlinkClick r:id="rId4" action="ppaction://hlinksldjump"/>
          </p:cNvPr>
          <p:cNvSpPr/>
          <p:nvPr/>
        </p:nvSpPr>
        <p:spPr>
          <a:xfrm>
            <a:off x="900000" y="4508640"/>
            <a:ext cx="682560" cy="610920"/>
          </a:xfrm>
          <a:custGeom>
            <a:avLst/>
            <a:gdLst>
              <a:gd name="textAreaLeft" fmla="*/ 39600 w 682560"/>
              <a:gd name="textAreaRight" fmla="*/ 642960 w 682560"/>
              <a:gd name="textAreaTop" fmla="*/ 39600 h 610920"/>
              <a:gd name="textAreaBottom" fmla="*/ 571320 h 610920"/>
            </a:gdLst>
            <a:ahLst/>
            <a:rect l="textAreaLeft" t="textAreaTop" r="textAreaRight" b="textAreaBottom"/>
            <a:pathLst>
              <a:path w="24131" h="21600">
                <a:moveTo>
                  <a:pt x="0" y="0"/>
                </a:moveTo>
                <a:lnTo>
                  <a:pt x="24131" y="0"/>
                </a:lnTo>
                <a:lnTo>
                  <a:pt x="24131" y="21600"/>
                </a:lnTo>
                <a:lnTo>
                  <a:pt x="0" y="21600"/>
                </a:lnTo>
                <a:close/>
              </a:path>
              <a:path fill="lightenLess" w="24131" h="21600">
                <a:moveTo>
                  <a:pt x="0" y="0"/>
                </a:moveTo>
                <a:lnTo>
                  <a:pt x="24131" y="0"/>
                </a:lnTo>
                <a:lnTo>
                  <a:pt x="22732" y="1400"/>
                </a:lnTo>
                <a:lnTo>
                  <a:pt x="1400" y="1400"/>
                </a:lnTo>
                <a:close/>
              </a:path>
              <a:path fill="darken" w="24131" h="21600">
                <a:moveTo>
                  <a:pt x="24131" y="0"/>
                </a:moveTo>
                <a:lnTo>
                  <a:pt x="24131" y="21600"/>
                </a:lnTo>
                <a:lnTo>
                  <a:pt x="22732" y="20200"/>
                </a:lnTo>
                <a:lnTo>
                  <a:pt x="22732" y="1400"/>
                </a:lnTo>
                <a:close/>
              </a:path>
              <a:path fill="darkenLess" w="24131" h="21600">
                <a:moveTo>
                  <a:pt x="241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32" y="20200"/>
                </a:lnTo>
                <a:close/>
              </a:path>
              <a:path fill="lighten" w="241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>
            <a:hlinkClick r:id="rId5" action="ppaction://hlinksldjump"/>
          </p:cNvPr>
          <p:cNvSpPr/>
          <p:nvPr/>
        </p:nvSpPr>
        <p:spPr>
          <a:xfrm>
            <a:off x="900000" y="5373720"/>
            <a:ext cx="682560" cy="611280"/>
          </a:xfrm>
          <a:custGeom>
            <a:avLst/>
            <a:gdLst>
              <a:gd name="textAreaLeft" fmla="*/ 39600 w 682560"/>
              <a:gd name="textAreaRight" fmla="*/ 642960 w 68256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4117" h="21600">
                <a:moveTo>
                  <a:pt x="0" y="0"/>
                </a:moveTo>
                <a:lnTo>
                  <a:pt x="24117" y="0"/>
                </a:lnTo>
                <a:lnTo>
                  <a:pt x="24117" y="21600"/>
                </a:lnTo>
                <a:lnTo>
                  <a:pt x="0" y="21600"/>
                </a:lnTo>
                <a:close/>
              </a:path>
              <a:path fill="lightenLess" w="24117" h="21600">
                <a:moveTo>
                  <a:pt x="0" y="0"/>
                </a:moveTo>
                <a:lnTo>
                  <a:pt x="24117" y="0"/>
                </a:lnTo>
                <a:lnTo>
                  <a:pt x="22717" y="1400"/>
                </a:lnTo>
                <a:lnTo>
                  <a:pt x="1400" y="1400"/>
                </a:lnTo>
                <a:close/>
              </a:path>
              <a:path fill="darken" w="24117" h="21600">
                <a:moveTo>
                  <a:pt x="24117" y="0"/>
                </a:moveTo>
                <a:lnTo>
                  <a:pt x="24117" y="21600"/>
                </a:lnTo>
                <a:lnTo>
                  <a:pt x="22717" y="20200"/>
                </a:lnTo>
                <a:lnTo>
                  <a:pt x="22717" y="1400"/>
                </a:lnTo>
                <a:close/>
              </a:path>
              <a:path fill="darkenLess" w="24117" h="21600">
                <a:moveTo>
                  <a:pt x="24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17" y="20200"/>
                </a:lnTo>
                <a:close/>
              </a:path>
              <a:path fill="lighten" w="24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>
            <a:hlinkClick r:id="rId6" action="ppaction://hlinksldjump"/>
          </p:cNvPr>
          <p:cNvSpPr/>
          <p:nvPr/>
        </p:nvSpPr>
        <p:spPr>
          <a:xfrm>
            <a:off x="8172360" y="5950080"/>
            <a:ext cx="684360" cy="610920"/>
          </a:xfrm>
          <a:custGeom>
            <a:avLst/>
            <a:gdLst>
              <a:gd name="textAreaLeft" fmla="*/ 39600 w 684360"/>
              <a:gd name="textAreaRight" fmla="*/ 644760 w 684360"/>
              <a:gd name="textAreaTop" fmla="*/ 39600 h 610920"/>
              <a:gd name="textAreaBottom" fmla="*/ 571320 h 610920"/>
            </a:gdLst>
            <a:ahLst/>
            <a:rect l="textAreaLeft" t="textAreaTop" r="textAreaRight" b="textAreaBottom"/>
            <a:pathLst>
              <a:path w="24195" h="21600">
                <a:moveTo>
                  <a:pt x="0" y="0"/>
                </a:moveTo>
                <a:lnTo>
                  <a:pt x="24195" y="0"/>
                </a:lnTo>
                <a:lnTo>
                  <a:pt x="24195" y="21600"/>
                </a:lnTo>
                <a:lnTo>
                  <a:pt x="0" y="21600"/>
                </a:lnTo>
                <a:close/>
              </a:path>
              <a:path fill="lightenLess" w="24195" h="21600">
                <a:moveTo>
                  <a:pt x="0" y="0"/>
                </a:moveTo>
                <a:lnTo>
                  <a:pt x="24195" y="0"/>
                </a:lnTo>
                <a:lnTo>
                  <a:pt x="22795" y="1400"/>
                </a:lnTo>
                <a:lnTo>
                  <a:pt x="1400" y="1400"/>
                </a:lnTo>
                <a:close/>
              </a:path>
              <a:path fill="darken" w="24195" h="21600">
                <a:moveTo>
                  <a:pt x="24195" y="0"/>
                </a:moveTo>
                <a:lnTo>
                  <a:pt x="24195" y="21600"/>
                </a:lnTo>
                <a:lnTo>
                  <a:pt x="22795" y="20200"/>
                </a:lnTo>
                <a:lnTo>
                  <a:pt x="22795" y="1400"/>
                </a:lnTo>
                <a:close/>
              </a:path>
              <a:path fill="darkenLess" w="24195" h="21600">
                <a:moveTo>
                  <a:pt x="24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95" y="20200"/>
                </a:lnTo>
                <a:close/>
              </a:path>
              <a:path fill="lighten" w="24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95" h="21600">
                <a:moveTo>
                  <a:pt x="5091" y="3794"/>
                </a:moveTo>
                <a:lnTo>
                  <a:pt x="19104" y="10800"/>
                </a:lnTo>
                <a:lnTo>
                  <a:pt x="5091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Щитовидная жел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рабатывает гормон тироксин, содержащий йо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гулирует обмен веществ. Повышает возбудимость нервной систем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22976" t="17165" r="20340" b="12277"/>
          <a:stretch/>
        </p:blipFill>
        <p:spPr>
          <a:xfrm>
            <a:off x="755640" y="1484280"/>
            <a:ext cx="2949480" cy="4464000"/>
          </a:xfrm>
          <a:prstGeom prst="rect">
            <a:avLst/>
          </a:prstGeom>
          <a:ln w="0">
            <a:noFill/>
          </a:ln>
        </p:spPr>
      </p:pic>
      <p:sp>
        <p:nvSpPr>
          <p:cNvPr id="201" name="">
            <a:hlinkClick r:id="rId3" action="ppaction://hlinksldjump"/>
          </p:cNvPr>
          <p:cNvSpPr/>
          <p:nvPr/>
        </p:nvSpPr>
        <p:spPr>
          <a:xfrm>
            <a:off x="8028000" y="5661000"/>
            <a:ext cx="609480" cy="6112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11280"/>
              <a:gd name="textAreaBottom" fmla="*/ 572040 h 611280"/>
            </a:gdLst>
            <a:ahLst/>
            <a:rect l="textAreaLeft" t="textAreaTop" r="textAreaRight" b="textAreaBottom"/>
            <a:pathLst>
              <a:path w="21600" h="21664">
                <a:moveTo>
                  <a:pt x="0" y="0"/>
                </a:moveTo>
                <a:lnTo>
                  <a:pt x="21600" y="0"/>
                </a:lnTo>
                <a:lnTo>
                  <a:pt x="21600" y="21664"/>
                </a:lnTo>
                <a:lnTo>
                  <a:pt x="0" y="21664"/>
                </a:lnTo>
                <a:close/>
              </a:path>
              <a:path fill="lightenLess" w="21600" h="216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4">
                <a:moveTo>
                  <a:pt x="21600" y="0"/>
                </a:moveTo>
                <a:lnTo>
                  <a:pt x="21600" y="21664"/>
                </a:lnTo>
                <a:lnTo>
                  <a:pt x="20200" y="20264"/>
                </a:lnTo>
                <a:lnTo>
                  <a:pt x="20200" y="1400"/>
                </a:lnTo>
                <a:close/>
              </a:path>
              <a:path fill="darkenLess" w="21600" h="21664">
                <a:moveTo>
                  <a:pt x="21600" y="21664"/>
                </a:moveTo>
                <a:lnTo>
                  <a:pt x="0" y="21664"/>
                </a:lnTo>
                <a:lnTo>
                  <a:pt x="1400" y="20264"/>
                </a:lnTo>
                <a:lnTo>
                  <a:pt x="20200" y="20264"/>
                </a:lnTo>
                <a:close/>
              </a:path>
              <a:path fill="lighten" w="21600" h="21664">
                <a:moveTo>
                  <a:pt x="0" y="216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4"/>
                </a:lnTo>
                <a:close/>
              </a:path>
              <a:path fill="darken" w="21600" h="21664">
                <a:moveTo>
                  <a:pt x="3794" y="10832"/>
                </a:moveTo>
                <a:lnTo>
                  <a:pt x="17806" y="3825"/>
                </a:lnTo>
                <a:lnTo>
                  <a:pt x="17806" y="1783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дпочеч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140000" y="1600200"/>
            <a:ext cx="460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зговой слой образует гормоны адреналин и норадреналин. Они повышают уровень глюкозы в крови, стимулируют сердцебиение, повышают кровяное давление, ускоряют дыха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рковый слой образует кортикоиды, влияют на жировой, белковый обмен и минеральных вещест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468360" y="2060640"/>
            <a:ext cx="3960720" cy="3876480"/>
          </a:xfrm>
          <a:prstGeom prst="rect">
            <a:avLst/>
          </a:prstGeom>
          <a:ln w="0">
            <a:noFill/>
          </a:ln>
        </p:spPr>
      </p:pic>
      <p:sp>
        <p:nvSpPr>
          <p:cNvPr id="205" name="">
            <a:hlinkClick r:id="rId3" action="ppaction://hlinksldjump"/>
          </p:cNvPr>
          <p:cNvSpPr/>
          <p:nvPr/>
        </p:nvSpPr>
        <p:spPr>
          <a:xfrm>
            <a:off x="8028000" y="5734080"/>
            <a:ext cx="611280" cy="61128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джелудочная жел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140000" y="16002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ормон инсулин снижает уровень глюкозы в крови, стимулируя ее превращение в гликоген в пече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ормон глюкагон повышает уровень глюкозы в крови, стимулируя расщепление гликогена в пече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3816360" cy="30877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690840" y="5300640"/>
            <a:ext cx="3574800" cy="45972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желудочная жел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2987640" y="4149360"/>
            <a:ext cx="71640" cy="1150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>
            <a:hlinkClick r:id="rId3" action="ppaction://hlinksldjump"/>
          </p:cNvPr>
          <p:cNvSpPr/>
          <p:nvPr/>
        </p:nvSpPr>
        <p:spPr>
          <a:xfrm>
            <a:off x="8028000" y="5661000"/>
            <a:ext cx="611280" cy="61128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ипофи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4441320"/>
            <a:ext cx="86868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мон роста соматотропин регулирует рост организма; вазопрессин регулирует интенсивность мочевыдел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пофиз – дирижер оркестра гормонов (половых, щитовидной железы, надпочечник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rcRect l="0" t="5875" r="14977" b="13816"/>
          <a:stretch/>
        </p:blipFill>
        <p:spPr>
          <a:xfrm>
            <a:off x="684360" y="1341360"/>
            <a:ext cx="5182920" cy="2952720"/>
          </a:xfrm>
          <a:prstGeom prst="rect">
            <a:avLst/>
          </a:prstGeom>
          <a:ln w="0">
            <a:noFill/>
          </a:ln>
        </p:spPr>
      </p:pic>
      <p:sp>
        <p:nvSpPr>
          <p:cNvPr id="215" name="">
            <a:hlinkClick r:id="rId3" action="ppaction://hlinksldjump"/>
          </p:cNvPr>
          <p:cNvSpPr/>
          <p:nvPr/>
        </p:nvSpPr>
        <p:spPr>
          <a:xfrm>
            <a:off x="8101080" y="5805360"/>
            <a:ext cx="609480" cy="493920"/>
          </a:xfrm>
          <a:custGeom>
            <a:avLst/>
            <a:gdLst>
              <a:gd name="textAreaLeft" fmla="*/ 31680 w 609480"/>
              <a:gd name="textAreaRight" fmla="*/ 577800 w 609480"/>
              <a:gd name="textAreaTop" fmla="*/ 31680 h 493920"/>
              <a:gd name="textAreaBottom" fmla="*/ 462240 h 493920"/>
            </a:gdLst>
            <a:ahLst/>
            <a:rect l="textAreaLeft" t="textAreaTop" r="textAreaRight" b="textAreaBottom"/>
            <a:pathLst>
              <a:path w="26650" h="21600">
                <a:moveTo>
                  <a:pt x="0" y="0"/>
                </a:moveTo>
                <a:lnTo>
                  <a:pt x="26650" y="0"/>
                </a:lnTo>
                <a:lnTo>
                  <a:pt x="26650" y="21600"/>
                </a:lnTo>
                <a:lnTo>
                  <a:pt x="0" y="21600"/>
                </a:lnTo>
                <a:close/>
              </a:path>
              <a:path fill="lightenLess" w="26650" h="21600">
                <a:moveTo>
                  <a:pt x="0" y="0"/>
                </a:moveTo>
                <a:lnTo>
                  <a:pt x="26650" y="0"/>
                </a:lnTo>
                <a:lnTo>
                  <a:pt x="25250" y="1400"/>
                </a:lnTo>
                <a:lnTo>
                  <a:pt x="1400" y="1400"/>
                </a:lnTo>
                <a:close/>
              </a:path>
              <a:path fill="darken" w="26650" h="21600">
                <a:moveTo>
                  <a:pt x="26650" y="0"/>
                </a:moveTo>
                <a:lnTo>
                  <a:pt x="26650" y="21600"/>
                </a:lnTo>
                <a:lnTo>
                  <a:pt x="25250" y="20200"/>
                </a:lnTo>
                <a:lnTo>
                  <a:pt x="25250" y="1400"/>
                </a:lnTo>
                <a:close/>
              </a:path>
              <a:path fill="darkenLess" w="26650" h="21600">
                <a:moveTo>
                  <a:pt x="266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50" y="20200"/>
                </a:lnTo>
                <a:close/>
              </a:path>
              <a:path fill="lighten" w="266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650" h="21600">
                <a:moveTo>
                  <a:pt x="6319" y="10800"/>
                </a:moveTo>
                <a:lnTo>
                  <a:pt x="20331" y="3794"/>
                </a:lnTo>
                <a:lnTo>
                  <a:pt x="20331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 нарушениями функций какой из желез связано заболевание базедовой болезнь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/>
          <p:nvPr/>
        </p:nvSpPr>
        <p:spPr>
          <a:xfrm>
            <a:off x="2293920" y="2604960"/>
            <a:ext cx="284472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желудоч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400840" y="3468600"/>
            <a:ext cx="225936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Щитовид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401920" y="4405320"/>
            <a:ext cx="273636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дпочеч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471760" y="5268960"/>
            <a:ext cx="166068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лов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740280" y="263700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11560" y="515772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11560" y="436572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04000" y="3500280"/>
            <a:ext cx="1222560" cy="520560"/>
          </a:xfrm>
          <a:prstGeom prst="rect">
            <a:avLst/>
          </a:prstGeom>
          <a:gradFill rotWithShape="0">
            <a:gsLst>
              <a:gs pos="0">
                <a:srgbClr val="5e7359"/>
              </a:gs>
              <a:gs pos="50000">
                <a:srgbClr val="cdfac2"/>
              </a:gs>
              <a:gs pos="100000">
                <a:srgbClr val="5e735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>
            <a:hlinkClick r:id="rId2" action="ppaction://hlinksldjump"/>
          </p:cNvPr>
          <p:cNvSpPr/>
          <p:nvPr/>
        </p:nvSpPr>
        <p:spPr>
          <a:xfrm>
            <a:off x="1042920" y="2565360"/>
            <a:ext cx="647640" cy="611280"/>
          </a:xfrm>
          <a:custGeom>
            <a:avLst/>
            <a:gdLst>
              <a:gd name="textAreaLeft" fmla="*/ 39600 w 647640"/>
              <a:gd name="textAreaRight" fmla="*/ 608040 w 64764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2884" h="21600">
                <a:moveTo>
                  <a:pt x="0" y="0"/>
                </a:moveTo>
                <a:lnTo>
                  <a:pt x="22884" y="0"/>
                </a:lnTo>
                <a:lnTo>
                  <a:pt x="22884" y="21600"/>
                </a:lnTo>
                <a:lnTo>
                  <a:pt x="0" y="21600"/>
                </a:lnTo>
                <a:close/>
              </a:path>
              <a:path fill="lightenLess" w="22884" h="21600">
                <a:moveTo>
                  <a:pt x="0" y="0"/>
                </a:moveTo>
                <a:lnTo>
                  <a:pt x="22884" y="0"/>
                </a:lnTo>
                <a:lnTo>
                  <a:pt x="21484" y="1400"/>
                </a:lnTo>
                <a:lnTo>
                  <a:pt x="1400" y="1400"/>
                </a:lnTo>
                <a:close/>
              </a:path>
              <a:path fill="darken" w="22884" h="21600">
                <a:moveTo>
                  <a:pt x="22884" y="0"/>
                </a:moveTo>
                <a:lnTo>
                  <a:pt x="22884" y="21600"/>
                </a:lnTo>
                <a:lnTo>
                  <a:pt x="21484" y="20200"/>
                </a:lnTo>
                <a:lnTo>
                  <a:pt x="21484" y="1400"/>
                </a:lnTo>
                <a:close/>
              </a:path>
              <a:path fill="darkenLess" w="22884" h="21600">
                <a:moveTo>
                  <a:pt x="22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84" y="20200"/>
                </a:lnTo>
                <a:close/>
              </a:path>
              <a:path fill="lighten" w="22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rId3" action="ppaction://hlinksldjump"/>
          </p:cNvPr>
          <p:cNvSpPr/>
          <p:nvPr/>
        </p:nvSpPr>
        <p:spPr>
          <a:xfrm>
            <a:off x="1042920" y="3429000"/>
            <a:ext cx="647640" cy="611280"/>
          </a:xfrm>
          <a:custGeom>
            <a:avLst/>
            <a:gdLst>
              <a:gd name="textAreaLeft" fmla="*/ 39600 w 647640"/>
              <a:gd name="textAreaRight" fmla="*/ 608040 w 64764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2884" h="21600">
                <a:moveTo>
                  <a:pt x="0" y="0"/>
                </a:moveTo>
                <a:lnTo>
                  <a:pt x="22884" y="0"/>
                </a:lnTo>
                <a:lnTo>
                  <a:pt x="22884" y="21600"/>
                </a:lnTo>
                <a:lnTo>
                  <a:pt x="0" y="21600"/>
                </a:lnTo>
                <a:close/>
              </a:path>
              <a:path fill="lightenLess" w="22884" h="21600">
                <a:moveTo>
                  <a:pt x="0" y="0"/>
                </a:moveTo>
                <a:lnTo>
                  <a:pt x="22884" y="0"/>
                </a:lnTo>
                <a:lnTo>
                  <a:pt x="21484" y="1400"/>
                </a:lnTo>
                <a:lnTo>
                  <a:pt x="1400" y="1400"/>
                </a:lnTo>
                <a:close/>
              </a:path>
              <a:path fill="darken" w="22884" h="21600">
                <a:moveTo>
                  <a:pt x="22884" y="0"/>
                </a:moveTo>
                <a:lnTo>
                  <a:pt x="22884" y="21600"/>
                </a:lnTo>
                <a:lnTo>
                  <a:pt x="21484" y="20200"/>
                </a:lnTo>
                <a:lnTo>
                  <a:pt x="21484" y="1400"/>
                </a:lnTo>
                <a:close/>
              </a:path>
              <a:path fill="darkenLess" w="22884" h="21600">
                <a:moveTo>
                  <a:pt x="22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84" y="20200"/>
                </a:lnTo>
                <a:close/>
              </a:path>
              <a:path fill="lighten" w="22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rId4" action="ppaction://hlinksldjump"/>
          </p:cNvPr>
          <p:cNvSpPr/>
          <p:nvPr/>
        </p:nvSpPr>
        <p:spPr>
          <a:xfrm>
            <a:off x="1042920" y="4365720"/>
            <a:ext cx="649440" cy="609480"/>
          </a:xfrm>
          <a:custGeom>
            <a:avLst/>
            <a:gdLst>
              <a:gd name="textAreaLeft" fmla="*/ 39240 w 649440"/>
              <a:gd name="textAreaRight" fmla="*/ 610200 w 649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3015" h="21600">
                <a:moveTo>
                  <a:pt x="0" y="0"/>
                </a:moveTo>
                <a:lnTo>
                  <a:pt x="23015" y="0"/>
                </a:lnTo>
                <a:lnTo>
                  <a:pt x="23015" y="21600"/>
                </a:lnTo>
                <a:lnTo>
                  <a:pt x="0" y="21600"/>
                </a:lnTo>
                <a:close/>
              </a:path>
              <a:path fill="lightenLess" w="23015" h="21600">
                <a:moveTo>
                  <a:pt x="0" y="0"/>
                </a:moveTo>
                <a:lnTo>
                  <a:pt x="23015" y="0"/>
                </a:lnTo>
                <a:lnTo>
                  <a:pt x="21615" y="1400"/>
                </a:lnTo>
                <a:lnTo>
                  <a:pt x="1400" y="1400"/>
                </a:lnTo>
                <a:close/>
              </a:path>
              <a:path fill="darken" w="23015" h="21600">
                <a:moveTo>
                  <a:pt x="23015" y="0"/>
                </a:moveTo>
                <a:lnTo>
                  <a:pt x="23015" y="21600"/>
                </a:lnTo>
                <a:lnTo>
                  <a:pt x="21615" y="20200"/>
                </a:lnTo>
                <a:lnTo>
                  <a:pt x="21615" y="1400"/>
                </a:lnTo>
                <a:close/>
              </a:path>
              <a:path fill="darkenLess" w="23015" h="21600">
                <a:moveTo>
                  <a:pt x="230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15" y="20200"/>
                </a:lnTo>
                <a:close/>
              </a:path>
              <a:path fill="lighten" w="230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>
            <a:hlinkClick r:id="rId5" action="ppaction://hlinksldjump"/>
          </p:cNvPr>
          <p:cNvSpPr/>
          <p:nvPr/>
        </p:nvSpPr>
        <p:spPr>
          <a:xfrm>
            <a:off x="1042920" y="5373720"/>
            <a:ext cx="611280" cy="538200"/>
          </a:xfrm>
          <a:custGeom>
            <a:avLst/>
            <a:gdLst>
              <a:gd name="textAreaLeft" fmla="*/ 34560 w 611280"/>
              <a:gd name="textAreaRight" fmla="*/ 576720 w 61128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4531" h="21600">
                <a:moveTo>
                  <a:pt x="0" y="0"/>
                </a:moveTo>
                <a:lnTo>
                  <a:pt x="24531" y="0"/>
                </a:lnTo>
                <a:lnTo>
                  <a:pt x="24531" y="21600"/>
                </a:lnTo>
                <a:lnTo>
                  <a:pt x="0" y="21600"/>
                </a:lnTo>
                <a:close/>
              </a:path>
              <a:path fill="lightenLess" w="24531" h="21600">
                <a:moveTo>
                  <a:pt x="0" y="0"/>
                </a:moveTo>
                <a:lnTo>
                  <a:pt x="24531" y="0"/>
                </a:lnTo>
                <a:lnTo>
                  <a:pt x="23131" y="1400"/>
                </a:lnTo>
                <a:lnTo>
                  <a:pt x="1400" y="1400"/>
                </a:lnTo>
                <a:close/>
              </a:path>
              <a:path fill="darken" w="24531" h="21600">
                <a:moveTo>
                  <a:pt x="24531" y="0"/>
                </a:moveTo>
                <a:lnTo>
                  <a:pt x="24531" y="21600"/>
                </a:lnTo>
                <a:lnTo>
                  <a:pt x="23131" y="20200"/>
                </a:lnTo>
                <a:lnTo>
                  <a:pt x="23131" y="1400"/>
                </a:lnTo>
                <a:close/>
              </a:path>
              <a:path fill="darkenLess" w="24531" h="21600">
                <a:moveTo>
                  <a:pt x="245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31" y="20200"/>
                </a:lnTo>
                <a:close/>
              </a:path>
              <a:path fill="lighten" w="245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>
            <a:hlinkClick r:id="rId6" action="ppaction://hlinksldjump"/>
          </p:cNvPr>
          <p:cNvSpPr/>
          <p:nvPr/>
        </p:nvSpPr>
        <p:spPr>
          <a:xfrm>
            <a:off x="8028000" y="5661000"/>
            <a:ext cx="682560" cy="682560"/>
          </a:xfrm>
          <a:custGeom>
            <a:avLst/>
            <a:gdLst>
              <a:gd name="textAreaLeft" fmla="*/ 43920 w 682560"/>
              <a:gd name="textAreaRight" fmla="*/ 638640 w 68256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160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1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быток гормона вызывает резкое понижение сахара в крови, наступает инсулиновый (гипогликемический)шок, нарушение деятельности мозга, судороги, потеря созн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достаток гормона приводит к сахарному диабету –увеличению сахара в крови, невозможности использования глюкозы клетками для получения энерг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джелудочная жел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>
            <a:hlinkClick r:id="rId2" action="ppaction://hlinksldjump"/>
          </p:cNvPr>
          <p:cNvSpPr/>
          <p:nvPr/>
        </p:nvSpPr>
        <p:spPr>
          <a:xfrm>
            <a:off x="8028000" y="5805360"/>
            <a:ext cx="755640" cy="611280"/>
          </a:xfrm>
          <a:custGeom>
            <a:avLst/>
            <a:gdLst>
              <a:gd name="textAreaLeft" fmla="*/ 39600 w 755640"/>
              <a:gd name="textAreaRight" fmla="*/ 716040 w 75564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6698" h="21600">
                <a:moveTo>
                  <a:pt x="0" y="0"/>
                </a:moveTo>
                <a:lnTo>
                  <a:pt x="26698" y="0"/>
                </a:lnTo>
                <a:lnTo>
                  <a:pt x="26698" y="21600"/>
                </a:lnTo>
                <a:lnTo>
                  <a:pt x="0" y="21600"/>
                </a:lnTo>
                <a:close/>
              </a:path>
              <a:path fill="lightenLess" w="26698" h="21600">
                <a:moveTo>
                  <a:pt x="0" y="0"/>
                </a:moveTo>
                <a:lnTo>
                  <a:pt x="26698" y="0"/>
                </a:lnTo>
                <a:lnTo>
                  <a:pt x="25298" y="1400"/>
                </a:lnTo>
                <a:lnTo>
                  <a:pt x="1400" y="1400"/>
                </a:lnTo>
                <a:close/>
              </a:path>
              <a:path fill="darken" w="26698" h="21600">
                <a:moveTo>
                  <a:pt x="26698" y="0"/>
                </a:moveTo>
                <a:lnTo>
                  <a:pt x="26698" y="21600"/>
                </a:lnTo>
                <a:lnTo>
                  <a:pt x="25298" y="20200"/>
                </a:lnTo>
                <a:lnTo>
                  <a:pt x="25298" y="1400"/>
                </a:lnTo>
                <a:close/>
              </a:path>
              <a:path fill="darkenLess" w="26698" h="21600">
                <a:moveTo>
                  <a:pt x="26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98" y="20200"/>
                </a:lnTo>
                <a:close/>
              </a:path>
              <a:path fill="lighten" w="26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698" h="21600">
                <a:moveTo>
                  <a:pt x="6343" y="10800"/>
                </a:moveTo>
                <a:lnTo>
                  <a:pt x="20356" y="3794"/>
                </a:lnTo>
                <a:lnTo>
                  <a:pt x="2035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Щитовидная жел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0" y="1341360"/>
            <a:ext cx="411480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азедова болезнь, при повышенном содержании гормона. Проявляется в возбудимости нервной системы и появлении зоб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84360" y="2060640"/>
            <a:ext cx="3816360" cy="3411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238" name="" descr=""/>
          <p:cNvPicPr/>
          <p:nvPr/>
        </p:nvPicPr>
        <p:blipFill>
          <a:blip r:embed="rId3"/>
          <a:srcRect l="14503" t="19381" r="10159" b="7906"/>
          <a:stretch/>
        </p:blipFill>
        <p:spPr>
          <a:xfrm>
            <a:off x="4932360" y="3716280"/>
            <a:ext cx="3095640" cy="26798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239" name="">
            <a:hlinkClick r:id="rId4" action="ppaction://hlinksldjump"/>
          </p:cNvPr>
          <p:cNvSpPr/>
          <p:nvPr/>
        </p:nvSpPr>
        <p:spPr>
          <a:xfrm>
            <a:off x="8172360" y="5734080"/>
            <a:ext cx="611280" cy="61128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дпочеч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быток гормонов: раннее половое созревание с быстрым прекращением рос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достаток: бронзовая болезнь (бронзовый оттенок кожи, слабость, похудение).Удаление когы надпочечников приводит к смерти, вследствие потери большого количества натр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755640" y="1484280"/>
            <a:ext cx="3309840" cy="41036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243" name="">
            <a:hlinkClick r:id="rId3" action="ppaction://hlinksldjump"/>
          </p:cNvPr>
          <p:cNvSpPr/>
          <p:nvPr/>
        </p:nvSpPr>
        <p:spPr>
          <a:xfrm>
            <a:off x="7956720" y="5734080"/>
            <a:ext cx="753840" cy="682560"/>
          </a:xfrm>
          <a:custGeom>
            <a:avLst/>
            <a:gdLst>
              <a:gd name="textAreaLeft" fmla="*/ 43920 w 753840"/>
              <a:gd name="textAreaRight" fmla="*/ 709920 w 75384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3855" h="21600">
                <a:moveTo>
                  <a:pt x="0" y="0"/>
                </a:moveTo>
                <a:lnTo>
                  <a:pt x="23855" y="0"/>
                </a:lnTo>
                <a:lnTo>
                  <a:pt x="23855" y="21600"/>
                </a:lnTo>
                <a:lnTo>
                  <a:pt x="0" y="21600"/>
                </a:lnTo>
                <a:close/>
              </a:path>
              <a:path fill="lightenLess" w="23855" h="21600">
                <a:moveTo>
                  <a:pt x="0" y="0"/>
                </a:moveTo>
                <a:lnTo>
                  <a:pt x="23855" y="0"/>
                </a:lnTo>
                <a:lnTo>
                  <a:pt x="22455" y="1400"/>
                </a:lnTo>
                <a:lnTo>
                  <a:pt x="1400" y="1400"/>
                </a:lnTo>
                <a:close/>
              </a:path>
              <a:path fill="darken" w="23855" h="21600">
                <a:moveTo>
                  <a:pt x="23855" y="0"/>
                </a:moveTo>
                <a:lnTo>
                  <a:pt x="23855" y="21600"/>
                </a:lnTo>
                <a:lnTo>
                  <a:pt x="22455" y="20200"/>
                </a:lnTo>
                <a:lnTo>
                  <a:pt x="22455" y="1400"/>
                </a:lnTo>
                <a:close/>
              </a:path>
              <a:path fill="darkenLess" w="23855" h="21600">
                <a:moveTo>
                  <a:pt x="238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55" y="20200"/>
                </a:lnTo>
                <a:close/>
              </a:path>
              <a:path fill="lighten" w="238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55" h="21600">
                <a:moveTo>
                  <a:pt x="4921" y="10800"/>
                </a:moveTo>
                <a:lnTo>
                  <a:pt x="18934" y="3794"/>
                </a:lnTo>
                <a:lnTo>
                  <a:pt x="18934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6228"/>
                </a:solidFill>
                <a:latin typeface="Arial"/>
              </a:rPr>
              <a:t>Вопрос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истема организма человека, отвечающая за гуморальную регуляцию функций организма, называетс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2442960" y="2997360"/>
            <a:ext cx="219240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втоном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01920" y="3763800"/>
            <a:ext cx="245736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гетатив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19560" y="4629240"/>
            <a:ext cx="237240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ндокри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420640" y="5421240"/>
            <a:ext cx="237528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ентра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20640" y="4653000"/>
            <a:ext cx="1207800" cy="520560"/>
          </a:xfrm>
          <a:prstGeom prst="rect">
            <a:avLst/>
          </a:prstGeom>
          <a:gradFill rotWithShape="0">
            <a:gsLst>
              <a:gs pos="0">
                <a:srgbClr val="5e7359"/>
              </a:gs>
              <a:gs pos="50000">
                <a:srgbClr val="cdfac2"/>
              </a:gs>
              <a:gs pos="100000">
                <a:srgbClr val="5e735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901840" y="297180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47920" y="371628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44760" y="544500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2" action="ppaction://hlinksldjump"/>
          </p:cNvPr>
          <p:cNvSpPr/>
          <p:nvPr/>
        </p:nvSpPr>
        <p:spPr>
          <a:xfrm>
            <a:off x="971640" y="4653000"/>
            <a:ext cx="610920" cy="538200"/>
          </a:xfrm>
          <a:custGeom>
            <a:avLst/>
            <a:gdLst>
              <a:gd name="textAreaLeft" fmla="*/ 34560 w 610920"/>
              <a:gd name="textAreaRight" fmla="*/ 576360 w 6109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4517" h="21600">
                <a:moveTo>
                  <a:pt x="0" y="0"/>
                </a:moveTo>
                <a:lnTo>
                  <a:pt x="24517" y="0"/>
                </a:lnTo>
                <a:lnTo>
                  <a:pt x="24517" y="21600"/>
                </a:lnTo>
                <a:lnTo>
                  <a:pt x="0" y="21600"/>
                </a:lnTo>
                <a:close/>
              </a:path>
              <a:path fill="lightenLess" w="24517" h="21600">
                <a:moveTo>
                  <a:pt x="0" y="0"/>
                </a:moveTo>
                <a:lnTo>
                  <a:pt x="24517" y="0"/>
                </a:lnTo>
                <a:lnTo>
                  <a:pt x="23117" y="1400"/>
                </a:lnTo>
                <a:lnTo>
                  <a:pt x="1400" y="1400"/>
                </a:lnTo>
                <a:close/>
              </a:path>
              <a:path fill="darken" w="24517" h="21600">
                <a:moveTo>
                  <a:pt x="24517" y="0"/>
                </a:moveTo>
                <a:lnTo>
                  <a:pt x="24517" y="21600"/>
                </a:lnTo>
                <a:lnTo>
                  <a:pt x="23117" y="20200"/>
                </a:lnTo>
                <a:lnTo>
                  <a:pt x="23117" y="1400"/>
                </a:lnTo>
                <a:close/>
              </a:path>
              <a:path fill="darkenLess" w="24517" h="21600">
                <a:moveTo>
                  <a:pt x="245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17" y="20200"/>
                </a:lnTo>
                <a:close/>
              </a:path>
              <a:path fill="lighten" w="245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3" action="ppaction://hlinksldjump"/>
          </p:cNvPr>
          <p:cNvSpPr/>
          <p:nvPr/>
        </p:nvSpPr>
        <p:spPr>
          <a:xfrm>
            <a:off x="971640" y="2997360"/>
            <a:ext cx="610920" cy="576000"/>
          </a:xfrm>
          <a:custGeom>
            <a:avLst/>
            <a:gdLst>
              <a:gd name="textAreaLeft" fmla="*/ 37080 w 610920"/>
              <a:gd name="textAreaRight" fmla="*/ 573840 w 6109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2909" h="21600">
                <a:moveTo>
                  <a:pt x="0" y="0"/>
                </a:moveTo>
                <a:lnTo>
                  <a:pt x="22909" y="0"/>
                </a:lnTo>
                <a:lnTo>
                  <a:pt x="22909" y="21600"/>
                </a:lnTo>
                <a:lnTo>
                  <a:pt x="0" y="21600"/>
                </a:lnTo>
                <a:close/>
              </a:path>
              <a:path fill="lightenLess" w="22909" h="21600">
                <a:moveTo>
                  <a:pt x="0" y="0"/>
                </a:moveTo>
                <a:lnTo>
                  <a:pt x="22909" y="0"/>
                </a:lnTo>
                <a:lnTo>
                  <a:pt x="21509" y="1400"/>
                </a:lnTo>
                <a:lnTo>
                  <a:pt x="1400" y="1400"/>
                </a:lnTo>
                <a:close/>
              </a:path>
              <a:path fill="darken" w="22909" h="21600">
                <a:moveTo>
                  <a:pt x="22909" y="0"/>
                </a:moveTo>
                <a:lnTo>
                  <a:pt x="22909" y="21600"/>
                </a:lnTo>
                <a:lnTo>
                  <a:pt x="21509" y="20200"/>
                </a:lnTo>
                <a:lnTo>
                  <a:pt x="21509" y="1400"/>
                </a:lnTo>
                <a:close/>
              </a:path>
              <a:path fill="darkenLess" w="22909" h="21600">
                <a:moveTo>
                  <a:pt x="229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9" y="20200"/>
                </a:lnTo>
                <a:close/>
              </a:path>
              <a:path fill="lighten" w="229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rId4" action="ppaction://hlinksldjump"/>
          </p:cNvPr>
          <p:cNvSpPr/>
          <p:nvPr/>
        </p:nvSpPr>
        <p:spPr>
          <a:xfrm>
            <a:off x="971640" y="3789360"/>
            <a:ext cx="610920" cy="611280"/>
          </a:xfrm>
          <a:custGeom>
            <a:avLst/>
            <a:gdLst>
              <a:gd name="textAreaLeft" fmla="*/ 39600 w 610920"/>
              <a:gd name="textAreaRight" fmla="*/ 571320 w 61092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5" action="ppaction://hlinksldjump"/>
          </p:cNvPr>
          <p:cNvSpPr/>
          <p:nvPr/>
        </p:nvSpPr>
        <p:spPr>
          <a:xfrm>
            <a:off x="971640" y="5445000"/>
            <a:ext cx="647640" cy="540000"/>
          </a:xfrm>
          <a:custGeom>
            <a:avLst/>
            <a:gdLst>
              <a:gd name="textAreaLeft" fmla="*/ 34920 w 647640"/>
              <a:gd name="textAreaRight" fmla="*/ 612720 w 64764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25903" h="21600">
                <a:moveTo>
                  <a:pt x="0" y="0"/>
                </a:moveTo>
                <a:lnTo>
                  <a:pt x="25903" y="0"/>
                </a:lnTo>
                <a:lnTo>
                  <a:pt x="25903" y="21600"/>
                </a:lnTo>
                <a:lnTo>
                  <a:pt x="0" y="21600"/>
                </a:lnTo>
                <a:close/>
              </a:path>
              <a:path fill="lightenLess" w="25903" h="21600">
                <a:moveTo>
                  <a:pt x="0" y="0"/>
                </a:moveTo>
                <a:lnTo>
                  <a:pt x="25903" y="0"/>
                </a:lnTo>
                <a:lnTo>
                  <a:pt x="24503" y="1400"/>
                </a:lnTo>
                <a:lnTo>
                  <a:pt x="1400" y="1400"/>
                </a:lnTo>
                <a:close/>
              </a:path>
              <a:path fill="darken" w="25903" h="21600">
                <a:moveTo>
                  <a:pt x="25903" y="0"/>
                </a:moveTo>
                <a:lnTo>
                  <a:pt x="25903" y="21600"/>
                </a:lnTo>
                <a:lnTo>
                  <a:pt x="24503" y="20200"/>
                </a:lnTo>
                <a:lnTo>
                  <a:pt x="24503" y="1400"/>
                </a:lnTo>
                <a:close/>
              </a:path>
              <a:path fill="darkenLess" w="25903" h="21600">
                <a:moveTo>
                  <a:pt x="259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3" y="20200"/>
                </a:lnTo>
                <a:close/>
              </a:path>
              <a:path fill="lighten" w="259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6" action="ppaction://hlinksldjump"/>
          </p:cNvPr>
          <p:cNvSpPr/>
          <p:nvPr/>
        </p:nvSpPr>
        <p:spPr>
          <a:xfrm>
            <a:off x="8101080" y="5805360"/>
            <a:ext cx="684000" cy="540000"/>
          </a:xfrm>
          <a:custGeom>
            <a:avLst/>
            <a:gdLst>
              <a:gd name="textAreaLeft" fmla="*/ 34920 w 684000"/>
              <a:gd name="textAreaRight" fmla="*/ 649080 w 68400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27356" h="21600">
                <a:moveTo>
                  <a:pt x="0" y="0"/>
                </a:moveTo>
                <a:lnTo>
                  <a:pt x="27356" y="0"/>
                </a:lnTo>
                <a:lnTo>
                  <a:pt x="27356" y="21600"/>
                </a:lnTo>
                <a:lnTo>
                  <a:pt x="0" y="21600"/>
                </a:lnTo>
                <a:close/>
              </a:path>
              <a:path fill="lightenLess" w="27356" h="21600">
                <a:moveTo>
                  <a:pt x="0" y="0"/>
                </a:moveTo>
                <a:lnTo>
                  <a:pt x="27356" y="0"/>
                </a:lnTo>
                <a:lnTo>
                  <a:pt x="25956" y="1400"/>
                </a:lnTo>
                <a:lnTo>
                  <a:pt x="1400" y="1400"/>
                </a:lnTo>
                <a:close/>
              </a:path>
              <a:path fill="darken" w="27356" h="21600">
                <a:moveTo>
                  <a:pt x="27356" y="0"/>
                </a:moveTo>
                <a:lnTo>
                  <a:pt x="27356" y="21600"/>
                </a:lnTo>
                <a:lnTo>
                  <a:pt x="25956" y="20200"/>
                </a:lnTo>
                <a:lnTo>
                  <a:pt x="25956" y="1400"/>
                </a:lnTo>
                <a:close/>
              </a:path>
              <a:path fill="darkenLess" w="27356" h="21600">
                <a:moveTo>
                  <a:pt x="273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56" y="20200"/>
                </a:lnTo>
                <a:close/>
              </a:path>
              <a:path fill="lighten" w="273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56" h="21600">
                <a:moveTo>
                  <a:pt x="6672" y="3794"/>
                </a:moveTo>
                <a:lnTo>
                  <a:pt x="20685" y="10800"/>
                </a:lnTo>
                <a:lnTo>
                  <a:pt x="6672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ловые гормо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енские гормоны: эстроге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ужские гормоны: андроге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еспечивают половую функцию организма, развитие вторичных половых функци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900000" y="1557360"/>
            <a:ext cx="3961080" cy="2209680"/>
            <a:chOff x="900000" y="1557360"/>
            <a:chExt cx="3961080" cy="2209680"/>
          </a:xfrm>
        </p:grpSpPr>
        <p:pic>
          <p:nvPicPr>
            <p:cNvPr id="247" name="" descr=""/>
            <p:cNvPicPr/>
            <p:nvPr/>
          </p:nvPicPr>
          <p:blipFill>
            <a:blip r:embed="rId2"/>
            <a:stretch/>
          </p:blipFill>
          <p:spPr>
            <a:xfrm>
              <a:off x="900000" y="1557360"/>
              <a:ext cx="396108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3780000" y="2637000"/>
              <a:ext cx="914400" cy="113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395280" y="3141720"/>
            <a:ext cx="2301840" cy="30240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2704680" y="5734080"/>
            <a:ext cx="3900960" cy="45972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ужские половые желе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61960" y="3375000"/>
            <a:ext cx="1425960" cy="119124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ен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еле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>
            <a:hlinkClick r:id="rId4" action="ppaction://hlinksldjump"/>
          </p:cNvPr>
          <p:cNvSpPr/>
          <p:nvPr/>
        </p:nvSpPr>
        <p:spPr>
          <a:xfrm>
            <a:off x="8101080" y="5734080"/>
            <a:ext cx="611280" cy="61128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ое из перечисленных химических соединений не является гормоном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/>
          <p:nvPr/>
        </p:nvSpPr>
        <p:spPr>
          <a:xfrm>
            <a:off x="2707560" y="2708280"/>
            <a:ext cx="159048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сул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707560" y="3500280"/>
            <a:ext cx="155844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ипс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709000" y="4437000"/>
            <a:ext cx="258408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матотроп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779200" y="5300640"/>
            <a:ext cx="172008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ирокс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524280" y="270828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524280" y="436572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524280" y="530064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516720" y="3429000"/>
            <a:ext cx="1222200" cy="520560"/>
          </a:xfrm>
          <a:prstGeom prst="rect">
            <a:avLst/>
          </a:prstGeom>
          <a:gradFill rotWithShape="0">
            <a:gsLst>
              <a:gs pos="0">
                <a:srgbClr val="5e7359"/>
              </a:gs>
              <a:gs pos="50000">
                <a:srgbClr val="cdfac2"/>
              </a:gs>
              <a:gs pos="100000">
                <a:srgbClr val="5e735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>
            <a:hlinkClick r:id="rId2" action="ppaction://hlinksldjump"/>
          </p:cNvPr>
          <p:cNvSpPr/>
          <p:nvPr/>
        </p:nvSpPr>
        <p:spPr>
          <a:xfrm>
            <a:off x="1258920" y="2637000"/>
            <a:ext cx="682560" cy="610920"/>
          </a:xfrm>
          <a:custGeom>
            <a:avLst/>
            <a:gdLst>
              <a:gd name="textAreaLeft" fmla="*/ 39600 w 682560"/>
              <a:gd name="textAreaRight" fmla="*/ 642960 w 682560"/>
              <a:gd name="textAreaTop" fmla="*/ 39600 h 610920"/>
              <a:gd name="textAreaBottom" fmla="*/ 571320 h 610920"/>
            </a:gdLst>
            <a:ahLst/>
            <a:rect l="textAreaLeft" t="textAreaTop" r="textAreaRight" b="textAreaBottom"/>
            <a:pathLst>
              <a:path w="24131" h="21600">
                <a:moveTo>
                  <a:pt x="0" y="0"/>
                </a:moveTo>
                <a:lnTo>
                  <a:pt x="24131" y="0"/>
                </a:lnTo>
                <a:lnTo>
                  <a:pt x="24131" y="21600"/>
                </a:lnTo>
                <a:lnTo>
                  <a:pt x="0" y="21600"/>
                </a:lnTo>
                <a:close/>
              </a:path>
              <a:path fill="lightenLess" w="24131" h="21600">
                <a:moveTo>
                  <a:pt x="0" y="0"/>
                </a:moveTo>
                <a:lnTo>
                  <a:pt x="24131" y="0"/>
                </a:lnTo>
                <a:lnTo>
                  <a:pt x="22732" y="1400"/>
                </a:lnTo>
                <a:lnTo>
                  <a:pt x="1400" y="1400"/>
                </a:lnTo>
                <a:close/>
              </a:path>
              <a:path fill="darken" w="24131" h="21600">
                <a:moveTo>
                  <a:pt x="24131" y="0"/>
                </a:moveTo>
                <a:lnTo>
                  <a:pt x="24131" y="21600"/>
                </a:lnTo>
                <a:lnTo>
                  <a:pt x="22732" y="20200"/>
                </a:lnTo>
                <a:lnTo>
                  <a:pt x="22732" y="1400"/>
                </a:lnTo>
                <a:close/>
              </a:path>
              <a:path fill="darkenLess" w="24131" h="21600">
                <a:moveTo>
                  <a:pt x="241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32" y="20200"/>
                </a:lnTo>
                <a:close/>
              </a:path>
              <a:path fill="lighten" w="241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>
            <a:hlinkClick r:id="rId3" action="ppaction://hlinksldjump"/>
          </p:cNvPr>
          <p:cNvSpPr/>
          <p:nvPr/>
        </p:nvSpPr>
        <p:spPr>
          <a:xfrm>
            <a:off x="1332000" y="3500280"/>
            <a:ext cx="611280" cy="538200"/>
          </a:xfrm>
          <a:custGeom>
            <a:avLst/>
            <a:gdLst>
              <a:gd name="textAreaLeft" fmla="*/ 34560 w 611280"/>
              <a:gd name="textAreaRight" fmla="*/ 576720 w 61128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4531" h="21600">
                <a:moveTo>
                  <a:pt x="0" y="0"/>
                </a:moveTo>
                <a:lnTo>
                  <a:pt x="24531" y="0"/>
                </a:lnTo>
                <a:lnTo>
                  <a:pt x="24531" y="21600"/>
                </a:lnTo>
                <a:lnTo>
                  <a:pt x="0" y="21600"/>
                </a:lnTo>
                <a:close/>
              </a:path>
              <a:path fill="lightenLess" w="24531" h="21600">
                <a:moveTo>
                  <a:pt x="0" y="0"/>
                </a:moveTo>
                <a:lnTo>
                  <a:pt x="24531" y="0"/>
                </a:lnTo>
                <a:lnTo>
                  <a:pt x="23131" y="1400"/>
                </a:lnTo>
                <a:lnTo>
                  <a:pt x="1400" y="1400"/>
                </a:lnTo>
                <a:close/>
              </a:path>
              <a:path fill="darken" w="24531" h="21600">
                <a:moveTo>
                  <a:pt x="24531" y="0"/>
                </a:moveTo>
                <a:lnTo>
                  <a:pt x="24531" y="21600"/>
                </a:lnTo>
                <a:lnTo>
                  <a:pt x="23131" y="20200"/>
                </a:lnTo>
                <a:lnTo>
                  <a:pt x="23131" y="1400"/>
                </a:lnTo>
                <a:close/>
              </a:path>
              <a:path fill="darkenLess" w="24531" h="21600">
                <a:moveTo>
                  <a:pt x="245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31" y="20200"/>
                </a:lnTo>
                <a:close/>
              </a:path>
              <a:path fill="lighten" w="245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>
            <a:hlinkClick r:id="rId4" action="ppaction://hlinksldjump"/>
          </p:cNvPr>
          <p:cNvSpPr/>
          <p:nvPr/>
        </p:nvSpPr>
        <p:spPr>
          <a:xfrm>
            <a:off x="1332000" y="4365720"/>
            <a:ext cx="611280" cy="609480"/>
          </a:xfrm>
          <a:custGeom>
            <a:avLst/>
            <a:gdLst>
              <a:gd name="textAreaLeft" fmla="*/ 39240 w 611280"/>
              <a:gd name="textAreaRight" fmla="*/ 572040 w 6112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64" h="21600">
                <a:moveTo>
                  <a:pt x="0" y="0"/>
                </a:moveTo>
                <a:lnTo>
                  <a:pt x="21664" y="0"/>
                </a:lnTo>
                <a:lnTo>
                  <a:pt x="21664" y="21600"/>
                </a:lnTo>
                <a:lnTo>
                  <a:pt x="0" y="21600"/>
                </a:lnTo>
                <a:close/>
              </a:path>
              <a:path fill="lightenLess" w="21664" h="21600">
                <a:moveTo>
                  <a:pt x="0" y="0"/>
                </a:moveTo>
                <a:lnTo>
                  <a:pt x="21664" y="0"/>
                </a:lnTo>
                <a:lnTo>
                  <a:pt x="20264" y="1400"/>
                </a:lnTo>
                <a:lnTo>
                  <a:pt x="1400" y="1400"/>
                </a:lnTo>
                <a:close/>
              </a:path>
              <a:path fill="darken" w="21664" h="21600">
                <a:moveTo>
                  <a:pt x="21664" y="0"/>
                </a:moveTo>
                <a:lnTo>
                  <a:pt x="21664" y="21600"/>
                </a:lnTo>
                <a:lnTo>
                  <a:pt x="20264" y="20200"/>
                </a:lnTo>
                <a:lnTo>
                  <a:pt x="20264" y="1400"/>
                </a:lnTo>
                <a:close/>
              </a:path>
              <a:path fill="darkenLess" w="21664" h="21600">
                <a:moveTo>
                  <a:pt x="21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4" y="20200"/>
                </a:lnTo>
                <a:close/>
              </a:path>
              <a:path fill="lighten" w="21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>
            <a:hlinkClick r:id="rId5" action="ppaction://hlinksldjump"/>
          </p:cNvPr>
          <p:cNvSpPr/>
          <p:nvPr/>
        </p:nvSpPr>
        <p:spPr>
          <a:xfrm>
            <a:off x="1332000" y="5300640"/>
            <a:ext cx="611280" cy="61128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>
            <a:hlinkClick r:id="rId6" action="ppaction://hlinksldjump"/>
          </p:cNvPr>
          <p:cNvSpPr/>
          <p:nvPr/>
        </p:nvSpPr>
        <p:spPr>
          <a:xfrm flipV="1">
            <a:off x="8172360" y="5733360"/>
            <a:ext cx="682560" cy="647640"/>
          </a:xfrm>
          <a:custGeom>
            <a:avLst/>
            <a:gdLst>
              <a:gd name="textAreaLeft" fmla="*/ 41760 w 682560"/>
              <a:gd name="textAreaRight" fmla="*/ 640800 w 6825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2764" h="21600">
                <a:moveTo>
                  <a:pt x="0" y="0"/>
                </a:moveTo>
                <a:lnTo>
                  <a:pt x="22764" y="0"/>
                </a:lnTo>
                <a:lnTo>
                  <a:pt x="22764" y="21600"/>
                </a:lnTo>
                <a:lnTo>
                  <a:pt x="0" y="21600"/>
                </a:lnTo>
                <a:close/>
              </a:path>
              <a:path fill="lightenLess" w="22764" h="21600">
                <a:moveTo>
                  <a:pt x="0" y="0"/>
                </a:moveTo>
                <a:lnTo>
                  <a:pt x="22764" y="0"/>
                </a:lnTo>
                <a:lnTo>
                  <a:pt x="21364" y="1400"/>
                </a:lnTo>
                <a:lnTo>
                  <a:pt x="1400" y="1400"/>
                </a:lnTo>
                <a:close/>
              </a:path>
              <a:path fill="darken" w="22764" h="21600">
                <a:moveTo>
                  <a:pt x="22764" y="0"/>
                </a:moveTo>
                <a:lnTo>
                  <a:pt x="22764" y="21600"/>
                </a:lnTo>
                <a:lnTo>
                  <a:pt x="21364" y="20200"/>
                </a:lnTo>
                <a:lnTo>
                  <a:pt x="21364" y="1400"/>
                </a:lnTo>
                <a:close/>
              </a:path>
              <a:path fill="darkenLess" w="22764" h="21600">
                <a:moveTo>
                  <a:pt x="22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64" y="20200"/>
                </a:lnTo>
                <a:close/>
              </a:path>
              <a:path fill="lighten" w="22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64" h="21600">
                <a:moveTo>
                  <a:pt x="4376" y="3794"/>
                </a:moveTo>
                <a:lnTo>
                  <a:pt x="18388" y="10800"/>
                </a:lnTo>
                <a:lnTo>
                  <a:pt x="437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restart="whenNotActive" nodeType="interactiveSeq" fill="hold">
                <p:stCondLst>
                  <p:cond evt="onClick">
                    <p:tgtEl>
                      <p:spTgt spid="256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8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0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233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2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нсул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нижает содержание сахара в крови, задерживая распад гликогена и синтез глюкозы в печени. В то же время инсулин повышает проницаемость клеточных мембран для глюкозы, способствуя её переходу в ткани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611280" y="1341360"/>
            <a:ext cx="3671640" cy="38880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884520" y="5392800"/>
            <a:ext cx="3050280" cy="45972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лекулы инсу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>
            <a:hlinkClick r:id="rId3" action="ppaction://hlinksldjump"/>
          </p:cNvPr>
          <p:cNvSpPr/>
          <p:nvPr/>
        </p:nvSpPr>
        <p:spPr>
          <a:xfrm>
            <a:off x="8028000" y="5805360"/>
            <a:ext cx="684360" cy="648000"/>
          </a:xfrm>
          <a:custGeom>
            <a:avLst/>
            <a:gdLst>
              <a:gd name="textAreaLeft" fmla="*/ 41760 w 684360"/>
              <a:gd name="textAreaRight" fmla="*/ 642600 w 684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2811" h="21600">
                <a:moveTo>
                  <a:pt x="0" y="0"/>
                </a:moveTo>
                <a:lnTo>
                  <a:pt x="22811" y="0"/>
                </a:lnTo>
                <a:lnTo>
                  <a:pt x="22811" y="21600"/>
                </a:lnTo>
                <a:lnTo>
                  <a:pt x="0" y="21600"/>
                </a:lnTo>
                <a:close/>
              </a:path>
              <a:path fill="lightenLess" w="22811" h="21600">
                <a:moveTo>
                  <a:pt x="0" y="0"/>
                </a:moveTo>
                <a:lnTo>
                  <a:pt x="22811" y="0"/>
                </a:lnTo>
                <a:lnTo>
                  <a:pt x="21411" y="1400"/>
                </a:lnTo>
                <a:lnTo>
                  <a:pt x="1400" y="1400"/>
                </a:lnTo>
                <a:close/>
              </a:path>
              <a:path fill="darken" w="22811" h="21600">
                <a:moveTo>
                  <a:pt x="22811" y="0"/>
                </a:moveTo>
                <a:lnTo>
                  <a:pt x="22811" y="21600"/>
                </a:lnTo>
                <a:lnTo>
                  <a:pt x="21411" y="20200"/>
                </a:lnTo>
                <a:lnTo>
                  <a:pt x="21411" y="1400"/>
                </a:lnTo>
                <a:close/>
              </a:path>
              <a:path fill="darkenLess" w="22811" h="21600">
                <a:moveTo>
                  <a:pt x="228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11" y="20200"/>
                </a:lnTo>
                <a:close/>
              </a:path>
              <a:path fill="lighten" w="228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11" h="21600">
                <a:moveTo>
                  <a:pt x="4399" y="10800"/>
                </a:moveTo>
                <a:lnTo>
                  <a:pt x="18412" y="3794"/>
                </a:lnTo>
                <a:lnTo>
                  <a:pt x="18412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рипс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ипсин — фермент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расщепляющий пептиды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белки;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ипсин синтезируется в поджелудочной желе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Поджелудочная железа синтезирует не только гормоны, но и фермент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611280" y="1557360"/>
            <a:ext cx="3816360" cy="286236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885240" y="4672080"/>
            <a:ext cx="2975760" cy="45972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лекула трипс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>
            <a:hlinkClick r:id="rId3" action="ppaction://hlinksldjump"/>
          </p:cNvPr>
          <p:cNvSpPr/>
          <p:nvPr/>
        </p:nvSpPr>
        <p:spPr>
          <a:xfrm>
            <a:off x="7956720" y="5734080"/>
            <a:ext cx="753840" cy="611280"/>
          </a:xfrm>
          <a:custGeom>
            <a:avLst/>
            <a:gdLst>
              <a:gd name="textAreaLeft" fmla="*/ 39600 w 753840"/>
              <a:gd name="textAreaRight" fmla="*/ 714240 w 75384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6634" h="21600">
                <a:moveTo>
                  <a:pt x="0" y="0"/>
                </a:moveTo>
                <a:lnTo>
                  <a:pt x="26634" y="0"/>
                </a:lnTo>
                <a:lnTo>
                  <a:pt x="26634" y="21600"/>
                </a:lnTo>
                <a:lnTo>
                  <a:pt x="0" y="21600"/>
                </a:lnTo>
                <a:close/>
              </a:path>
              <a:path fill="lightenLess" w="26634" h="21600">
                <a:moveTo>
                  <a:pt x="0" y="0"/>
                </a:moveTo>
                <a:lnTo>
                  <a:pt x="26634" y="0"/>
                </a:lnTo>
                <a:lnTo>
                  <a:pt x="25234" y="1400"/>
                </a:lnTo>
                <a:lnTo>
                  <a:pt x="1400" y="1400"/>
                </a:lnTo>
                <a:close/>
              </a:path>
              <a:path fill="darken" w="26634" h="21600">
                <a:moveTo>
                  <a:pt x="26634" y="0"/>
                </a:moveTo>
                <a:lnTo>
                  <a:pt x="26634" y="21600"/>
                </a:lnTo>
                <a:lnTo>
                  <a:pt x="25234" y="20200"/>
                </a:lnTo>
                <a:lnTo>
                  <a:pt x="25234" y="1400"/>
                </a:lnTo>
                <a:close/>
              </a:path>
              <a:path fill="darkenLess" w="26634" h="21600">
                <a:moveTo>
                  <a:pt x="26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34" y="20200"/>
                </a:lnTo>
                <a:close/>
              </a:path>
              <a:path fill="lighten" w="26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634" h="21600">
                <a:moveTo>
                  <a:pt x="6311" y="10800"/>
                </a:moveTo>
                <a:lnTo>
                  <a:pt x="20324" y="3794"/>
                </a:lnTo>
                <a:lnTo>
                  <a:pt x="20324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матотроп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моном роста соматотропин называют за то, что у детей и подростков, а также молодых людей с ещё не закрывшимися зонами роста в костях он вызывает выраженное ускорение линейного (в длину) роста, в основном за счет роста длинных трубчатых костей конечносте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900000" y="1557360"/>
            <a:ext cx="2733840" cy="380988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663480" y="5464080"/>
            <a:ext cx="3762000" cy="82548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игантизм, вызва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бытком гормона ро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>
            <a:hlinkClick r:id="rId3" action="ppaction://hlinksldjump"/>
          </p:cNvPr>
          <p:cNvSpPr/>
          <p:nvPr/>
        </p:nvSpPr>
        <p:spPr>
          <a:xfrm>
            <a:off x="8028000" y="5661000"/>
            <a:ext cx="682560" cy="682560"/>
          </a:xfrm>
          <a:custGeom>
            <a:avLst/>
            <a:gdLst>
              <a:gd name="textAreaLeft" fmla="*/ 43920 w 682560"/>
              <a:gd name="textAreaRight" fmla="*/ 638640 w 68256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ирокс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гормон щитовидной желез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недостатке тироксина у взрослых людей развивается микседема. Недостаток тироксина, в раннем детстве или является врожденной, вызывает кретиниз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гиперфункции тироксина развивается базедова болезнь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rcRect l="66665" t="0" r="0" b="0"/>
          <a:stretch/>
        </p:blipFill>
        <p:spPr>
          <a:xfrm>
            <a:off x="2124000" y="2781360"/>
            <a:ext cx="2441520" cy="35290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286" name="" descr=""/>
          <p:cNvPicPr/>
          <p:nvPr/>
        </p:nvPicPr>
        <p:blipFill>
          <a:blip r:embed="rId3"/>
          <a:srcRect l="0" t="9068" r="70537" b="5752"/>
          <a:stretch/>
        </p:blipFill>
        <p:spPr>
          <a:xfrm>
            <a:off x="324000" y="1341360"/>
            <a:ext cx="2016000" cy="2808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287" name=""/>
          <p:cNvSpPr/>
          <p:nvPr/>
        </p:nvSpPr>
        <p:spPr>
          <a:xfrm>
            <a:off x="1188000" y="5805360"/>
            <a:ext cx="1697040" cy="45972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етин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>
            <a:hlinkClick r:id="rId4" action="ppaction://hlinksldjump"/>
          </p:cNvPr>
          <p:cNvSpPr/>
          <p:nvPr/>
        </p:nvSpPr>
        <p:spPr>
          <a:xfrm>
            <a:off x="8101080" y="5805360"/>
            <a:ext cx="682560" cy="613080"/>
          </a:xfrm>
          <a:custGeom>
            <a:avLst/>
            <a:gdLst>
              <a:gd name="textAreaLeft" fmla="*/ 39600 w 682560"/>
              <a:gd name="textAreaRight" fmla="*/ 642960 w 682560"/>
              <a:gd name="textAreaTop" fmla="*/ 39600 h 613080"/>
              <a:gd name="textAreaBottom" fmla="*/ 573480 h 613080"/>
            </a:gdLst>
            <a:ahLst/>
            <a:rect l="textAreaLeft" t="textAreaTop" r="textAreaRight" b="textAreaBottom"/>
            <a:pathLst>
              <a:path w="24046" h="21600">
                <a:moveTo>
                  <a:pt x="0" y="0"/>
                </a:moveTo>
                <a:lnTo>
                  <a:pt x="24046" y="0"/>
                </a:lnTo>
                <a:lnTo>
                  <a:pt x="24046" y="21600"/>
                </a:lnTo>
                <a:lnTo>
                  <a:pt x="0" y="21600"/>
                </a:lnTo>
                <a:close/>
              </a:path>
              <a:path fill="lightenLess" w="24046" h="21600">
                <a:moveTo>
                  <a:pt x="0" y="0"/>
                </a:moveTo>
                <a:lnTo>
                  <a:pt x="24046" y="0"/>
                </a:lnTo>
                <a:lnTo>
                  <a:pt x="22646" y="1400"/>
                </a:lnTo>
                <a:lnTo>
                  <a:pt x="1400" y="1400"/>
                </a:lnTo>
                <a:close/>
              </a:path>
              <a:path fill="darken" w="24046" h="21600">
                <a:moveTo>
                  <a:pt x="24046" y="0"/>
                </a:moveTo>
                <a:lnTo>
                  <a:pt x="24046" y="21600"/>
                </a:lnTo>
                <a:lnTo>
                  <a:pt x="22646" y="20200"/>
                </a:lnTo>
                <a:lnTo>
                  <a:pt x="22646" y="1400"/>
                </a:lnTo>
                <a:close/>
              </a:path>
              <a:path fill="darkenLess" w="24046" h="21600">
                <a:moveTo>
                  <a:pt x="240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46" y="20200"/>
                </a:lnTo>
                <a:close/>
              </a:path>
              <a:path fill="lighten" w="240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46" h="21600">
                <a:moveTo>
                  <a:pt x="5017" y="10800"/>
                </a:moveTo>
                <a:lnTo>
                  <a:pt x="19030" y="3794"/>
                </a:lnTo>
                <a:lnTo>
                  <a:pt x="19030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ое заболевание  возникает при  гиперфункции гипофиз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"/>
          <p:cNvSpPr/>
          <p:nvPr/>
        </p:nvSpPr>
        <p:spPr>
          <a:xfrm>
            <a:off x="2924640" y="2852640"/>
            <a:ext cx="233568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кромегал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975040" y="3757680"/>
            <a:ext cx="205380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ксид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976120" y="4621320"/>
            <a:ext cx="321516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азедова болез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976120" y="5484960"/>
            <a:ext cx="312516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ахарный диаб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740280" y="371628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740280" y="465300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811560" y="544500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739920" y="2924280"/>
            <a:ext cx="1207800" cy="520560"/>
          </a:xfrm>
          <a:prstGeom prst="rect">
            <a:avLst/>
          </a:prstGeom>
          <a:gradFill rotWithShape="0">
            <a:gsLst>
              <a:gs pos="0">
                <a:srgbClr val="5e7359"/>
              </a:gs>
              <a:gs pos="50000">
                <a:srgbClr val="cdfac2"/>
              </a:gs>
              <a:gs pos="100000">
                <a:srgbClr val="5e735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>
            <a:hlinkClick r:id="rId2" action="ppaction://hlinksldjump"/>
          </p:cNvPr>
          <p:cNvSpPr/>
          <p:nvPr/>
        </p:nvSpPr>
        <p:spPr>
          <a:xfrm>
            <a:off x="1476360" y="285264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>
            <a:hlinkClick r:id="rId3" action="ppaction://hlinksldjump"/>
          </p:cNvPr>
          <p:cNvSpPr/>
          <p:nvPr/>
        </p:nvSpPr>
        <p:spPr>
          <a:xfrm>
            <a:off x="1476360" y="3645000"/>
            <a:ext cx="647640" cy="57600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285" h="21600">
                <a:moveTo>
                  <a:pt x="0" y="0"/>
                </a:moveTo>
                <a:lnTo>
                  <a:pt x="24285" y="0"/>
                </a:lnTo>
                <a:lnTo>
                  <a:pt x="24285" y="21600"/>
                </a:lnTo>
                <a:lnTo>
                  <a:pt x="0" y="21600"/>
                </a:lnTo>
                <a:close/>
              </a:path>
              <a:path fill="lightenLess" w="24285" h="21600">
                <a:moveTo>
                  <a:pt x="0" y="0"/>
                </a:moveTo>
                <a:lnTo>
                  <a:pt x="24285" y="0"/>
                </a:lnTo>
                <a:lnTo>
                  <a:pt x="22885" y="1400"/>
                </a:lnTo>
                <a:lnTo>
                  <a:pt x="1400" y="1400"/>
                </a:lnTo>
                <a:close/>
              </a:path>
              <a:path fill="darken" w="24285" h="21600">
                <a:moveTo>
                  <a:pt x="24285" y="0"/>
                </a:moveTo>
                <a:lnTo>
                  <a:pt x="24285" y="21600"/>
                </a:lnTo>
                <a:lnTo>
                  <a:pt x="22885" y="20200"/>
                </a:lnTo>
                <a:lnTo>
                  <a:pt x="22885" y="1400"/>
                </a:lnTo>
                <a:close/>
              </a:path>
              <a:path fill="darkenLess" w="24285" h="21600">
                <a:moveTo>
                  <a:pt x="24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5" y="20200"/>
                </a:lnTo>
                <a:close/>
              </a:path>
              <a:path fill="lighten" w="24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>
            <a:hlinkClick r:id="rId4" action="ppaction://hlinksldjump"/>
          </p:cNvPr>
          <p:cNvSpPr/>
          <p:nvPr/>
        </p:nvSpPr>
        <p:spPr>
          <a:xfrm>
            <a:off x="1476360" y="4508640"/>
            <a:ext cx="684360" cy="610920"/>
          </a:xfrm>
          <a:custGeom>
            <a:avLst/>
            <a:gdLst>
              <a:gd name="textAreaLeft" fmla="*/ 39600 w 684360"/>
              <a:gd name="textAreaRight" fmla="*/ 644760 w 684360"/>
              <a:gd name="textAreaTop" fmla="*/ 39600 h 610920"/>
              <a:gd name="textAreaBottom" fmla="*/ 571320 h 610920"/>
            </a:gdLst>
            <a:ahLst/>
            <a:rect l="textAreaLeft" t="textAreaTop" r="textAreaRight" b="textAreaBottom"/>
            <a:pathLst>
              <a:path w="24195" h="21600">
                <a:moveTo>
                  <a:pt x="0" y="0"/>
                </a:moveTo>
                <a:lnTo>
                  <a:pt x="24195" y="0"/>
                </a:lnTo>
                <a:lnTo>
                  <a:pt x="24195" y="21600"/>
                </a:lnTo>
                <a:lnTo>
                  <a:pt x="0" y="21600"/>
                </a:lnTo>
                <a:close/>
              </a:path>
              <a:path fill="lightenLess" w="24195" h="21600">
                <a:moveTo>
                  <a:pt x="0" y="0"/>
                </a:moveTo>
                <a:lnTo>
                  <a:pt x="24195" y="0"/>
                </a:lnTo>
                <a:lnTo>
                  <a:pt x="22795" y="1400"/>
                </a:lnTo>
                <a:lnTo>
                  <a:pt x="1400" y="1400"/>
                </a:lnTo>
                <a:close/>
              </a:path>
              <a:path fill="darken" w="24195" h="21600">
                <a:moveTo>
                  <a:pt x="24195" y="0"/>
                </a:moveTo>
                <a:lnTo>
                  <a:pt x="24195" y="21600"/>
                </a:lnTo>
                <a:lnTo>
                  <a:pt x="22795" y="20200"/>
                </a:lnTo>
                <a:lnTo>
                  <a:pt x="22795" y="1400"/>
                </a:lnTo>
                <a:close/>
              </a:path>
              <a:path fill="darkenLess" w="24195" h="21600">
                <a:moveTo>
                  <a:pt x="24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95" y="20200"/>
                </a:lnTo>
                <a:close/>
              </a:path>
              <a:path fill="lighten" w="24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>
            <a:hlinkClick r:id="rId5" action="ppaction://hlinksldjump"/>
          </p:cNvPr>
          <p:cNvSpPr/>
          <p:nvPr/>
        </p:nvSpPr>
        <p:spPr>
          <a:xfrm>
            <a:off x="1476360" y="5373720"/>
            <a:ext cx="682560" cy="611280"/>
          </a:xfrm>
          <a:custGeom>
            <a:avLst/>
            <a:gdLst>
              <a:gd name="textAreaLeft" fmla="*/ 39600 w 682560"/>
              <a:gd name="textAreaRight" fmla="*/ 642960 w 68256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4117" h="21600">
                <a:moveTo>
                  <a:pt x="0" y="0"/>
                </a:moveTo>
                <a:lnTo>
                  <a:pt x="24117" y="0"/>
                </a:lnTo>
                <a:lnTo>
                  <a:pt x="24117" y="21600"/>
                </a:lnTo>
                <a:lnTo>
                  <a:pt x="0" y="21600"/>
                </a:lnTo>
                <a:close/>
              </a:path>
              <a:path fill="lightenLess" w="24117" h="21600">
                <a:moveTo>
                  <a:pt x="0" y="0"/>
                </a:moveTo>
                <a:lnTo>
                  <a:pt x="24117" y="0"/>
                </a:lnTo>
                <a:lnTo>
                  <a:pt x="22717" y="1400"/>
                </a:lnTo>
                <a:lnTo>
                  <a:pt x="1400" y="1400"/>
                </a:lnTo>
                <a:close/>
              </a:path>
              <a:path fill="darken" w="24117" h="21600">
                <a:moveTo>
                  <a:pt x="24117" y="0"/>
                </a:moveTo>
                <a:lnTo>
                  <a:pt x="24117" y="21600"/>
                </a:lnTo>
                <a:lnTo>
                  <a:pt x="22717" y="20200"/>
                </a:lnTo>
                <a:lnTo>
                  <a:pt x="22717" y="1400"/>
                </a:lnTo>
                <a:close/>
              </a:path>
              <a:path fill="darkenLess" w="24117" h="21600">
                <a:moveTo>
                  <a:pt x="24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17" y="20200"/>
                </a:lnTo>
                <a:close/>
              </a:path>
              <a:path fill="lighten" w="24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>
            <a:hlinkClick r:id="rId6" action="ppaction://hlinksldjump"/>
          </p:cNvPr>
          <p:cNvSpPr/>
          <p:nvPr/>
        </p:nvSpPr>
        <p:spPr>
          <a:xfrm>
            <a:off x="8028000" y="5734080"/>
            <a:ext cx="755640" cy="682560"/>
          </a:xfrm>
          <a:custGeom>
            <a:avLst/>
            <a:gdLst>
              <a:gd name="textAreaLeft" fmla="*/ 43920 w 755640"/>
              <a:gd name="textAreaRight" fmla="*/ 711720 w 75564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3911" h="21600">
                <a:moveTo>
                  <a:pt x="0" y="0"/>
                </a:moveTo>
                <a:lnTo>
                  <a:pt x="23911" y="0"/>
                </a:lnTo>
                <a:lnTo>
                  <a:pt x="23911" y="21600"/>
                </a:lnTo>
                <a:lnTo>
                  <a:pt x="0" y="21600"/>
                </a:lnTo>
                <a:close/>
              </a:path>
              <a:path fill="lightenLess" w="23911" h="21600">
                <a:moveTo>
                  <a:pt x="0" y="0"/>
                </a:moveTo>
                <a:lnTo>
                  <a:pt x="23911" y="0"/>
                </a:lnTo>
                <a:lnTo>
                  <a:pt x="22511" y="1400"/>
                </a:lnTo>
                <a:lnTo>
                  <a:pt x="1400" y="1400"/>
                </a:lnTo>
                <a:close/>
              </a:path>
              <a:path fill="darken" w="23911" h="21600">
                <a:moveTo>
                  <a:pt x="23911" y="0"/>
                </a:moveTo>
                <a:lnTo>
                  <a:pt x="23911" y="21600"/>
                </a:lnTo>
                <a:lnTo>
                  <a:pt x="22511" y="20200"/>
                </a:lnTo>
                <a:lnTo>
                  <a:pt x="22511" y="1400"/>
                </a:lnTo>
                <a:close/>
              </a:path>
              <a:path fill="darkenLess" w="23911" h="21600">
                <a:moveTo>
                  <a:pt x="239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11" y="20200"/>
                </a:lnTo>
                <a:close/>
              </a:path>
              <a:path fill="lighten" w="239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11" h="21600">
                <a:moveTo>
                  <a:pt x="4949" y="3794"/>
                </a:moveTo>
                <a:lnTo>
                  <a:pt x="18962" y="10800"/>
                </a:lnTo>
                <a:lnTo>
                  <a:pt x="4949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246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7" restart="whenNotActive" nodeType="interactiveSeq" fill="hold">
                <p:stCondLst>
                  <p:cond evt="onClick">
                    <p:tgtEl>
                      <p:spTgt spid="292"/>
                    </p:tgtEl>
                  </p:cond>
                </p:stCondLst>
                <p:childTnLst>
                  <p:par>
                    <p:cTn id="258" fill="hold">
                      <p:stCondLst>
                        <p:cond evt="onClick">
                          <p:tgtEl>
                            <p:spTgt spid="292"/>
                          </p:tgtEl>
                        </p:cond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7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9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270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9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282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1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кромегал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0072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быточное действие гормона роста гипофиза(гиперфункция) у взрослых приводит к заболеванию акромегалия. Это усиленный рост костей лицевого отдела черепа, кистей, сто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611280" y="1341360"/>
            <a:ext cx="3527280" cy="32385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307" name="" descr=""/>
          <p:cNvPicPr/>
          <p:nvPr/>
        </p:nvPicPr>
        <p:blipFill>
          <a:blip r:embed="rId3"/>
          <a:stretch/>
        </p:blipFill>
        <p:spPr>
          <a:xfrm>
            <a:off x="611280" y="4408560"/>
            <a:ext cx="3529080" cy="2112840"/>
          </a:xfrm>
          <a:prstGeom prst="rect">
            <a:avLst/>
          </a:prstGeom>
          <a:ln w="0">
            <a:noFill/>
          </a:ln>
        </p:spPr>
      </p:pic>
      <p:sp>
        <p:nvSpPr>
          <p:cNvPr id="308" name="">
            <a:hlinkClick r:id="rId4" action="ppaction://hlinksldjump"/>
          </p:cNvPr>
          <p:cNvSpPr/>
          <p:nvPr/>
        </p:nvSpPr>
        <p:spPr>
          <a:xfrm>
            <a:off x="8101080" y="5734080"/>
            <a:ext cx="611280" cy="61128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ксиде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ли слизистый отек, вызывается недостаточной функций щитовидной железы. Сердце работает слабо, температура тела понижена.Кровь застаивается в венах и капиллярах, образуется много тканевой жидкости, начинается оте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468360" y="1989000"/>
            <a:ext cx="4390920" cy="2268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312" name="">
            <a:hlinkClick r:id="rId3" action="ppaction://hlinksldjump"/>
          </p:cNvPr>
          <p:cNvSpPr/>
          <p:nvPr/>
        </p:nvSpPr>
        <p:spPr>
          <a:xfrm>
            <a:off x="8028000" y="5734080"/>
            <a:ext cx="684360" cy="647640"/>
          </a:xfrm>
          <a:custGeom>
            <a:avLst/>
            <a:gdLst>
              <a:gd name="textAreaLeft" fmla="*/ 41760 w 684360"/>
              <a:gd name="textAreaRight" fmla="*/ 642600 w 684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2824" h="21600">
                <a:moveTo>
                  <a:pt x="0" y="0"/>
                </a:moveTo>
                <a:lnTo>
                  <a:pt x="22824" y="0"/>
                </a:lnTo>
                <a:lnTo>
                  <a:pt x="22824" y="21600"/>
                </a:lnTo>
                <a:lnTo>
                  <a:pt x="0" y="21600"/>
                </a:lnTo>
                <a:close/>
              </a:path>
              <a:path fill="lightenLess" w="22824" h="21600">
                <a:moveTo>
                  <a:pt x="0" y="0"/>
                </a:moveTo>
                <a:lnTo>
                  <a:pt x="22824" y="0"/>
                </a:lnTo>
                <a:lnTo>
                  <a:pt x="21424" y="1400"/>
                </a:lnTo>
                <a:lnTo>
                  <a:pt x="1400" y="1400"/>
                </a:lnTo>
                <a:close/>
              </a:path>
              <a:path fill="darken" w="22824" h="21600">
                <a:moveTo>
                  <a:pt x="22824" y="0"/>
                </a:moveTo>
                <a:lnTo>
                  <a:pt x="22824" y="21600"/>
                </a:lnTo>
                <a:lnTo>
                  <a:pt x="21424" y="20200"/>
                </a:lnTo>
                <a:lnTo>
                  <a:pt x="21424" y="1400"/>
                </a:lnTo>
                <a:close/>
              </a:path>
              <a:path fill="darkenLess" w="22824" h="21600">
                <a:moveTo>
                  <a:pt x="228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24" y="20200"/>
                </a:lnTo>
                <a:close/>
              </a:path>
              <a:path fill="lighten" w="228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24" h="21600">
                <a:moveTo>
                  <a:pt x="4406" y="10800"/>
                </a:moveTo>
                <a:lnTo>
                  <a:pt x="18418" y="3794"/>
                </a:lnTo>
                <a:lnTo>
                  <a:pt x="18418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азедова болезн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избытке (гиперфункции) гормонов щитовидной железы освобождается много энергии. Процессы распада в организме идут быстро, человек худеет, развивается пучеглазие. Человек становится раздражительны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755640" y="1628640"/>
            <a:ext cx="3492360" cy="4445280"/>
          </a:xfrm>
          <a:prstGeom prst="rect">
            <a:avLst/>
          </a:prstGeom>
          <a:ln w="0">
            <a:noFill/>
          </a:ln>
        </p:spPr>
      </p:pic>
      <p:sp>
        <p:nvSpPr>
          <p:cNvPr id="316" name="">
            <a:hlinkClick r:id="rId3" action="ppaction://hlinksldjump"/>
          </p:cNvPr>
          <p:cNvSpPr/>
          <p:nvPr/>
        </p:nvSpPr>
        <p:spPr>
          <a:xfrm>
            <a:off x="8028000" y="5661000"/>
            <a:ext cx="682560" cy="682560"/>
          </a:xfrm>
          <a:custGeom>
            <a:avLst/>
            <a:gdLst>
              <a:gd name="textAreaLeft" fmla="*/ 43920 w 682560"/>
              <a:gd name="textAreaRight" fmla="*/ 638640 w 68256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желудочная железа является железой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400480" y="2316240"/>
            <a:ext cx="376668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нутренней секре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01200" y="3108240"/>
            <a:ext cx="377748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мешанной секре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19560" y="4044960"/>
            <a:ext cx="331560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нешней секре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19200" y="4908600"/>
            <a:ext cx="204444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ремен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24280" y="227664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595560" y="486900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524280" y="393372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23920" y="3068640"/>
            <a:ext cx="1207800" cy="520560"/>
          </a:xfrm>
          <a:prstGeom prst="rect">
            <a:avLst/>
          </a:prstGeom>
          <a:gradFill rotWithShape="0">
            <a:gsLst>
              <a:gs pos="0">
                <a:srgbClr val="5e7359"/>
              </a:gs>
              <a:gs pos="50000">
                <a:srgbClr val="cdfac2"/>
              </a:gs>
              <a:gs pos="100000">
                <a:srgbClr val="5e735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rId2" action="ppaction://hlinksldjump"/>
          </p:cNvPr>
          <p:cNvSpPr/>
          <p:nvPr/>
        </p:nvSpPr>
        <p:spPr>
          <a:xfrm>
            <a:off x="1258920" y="4076640"/>
            <a:ext cx="612720" cy="612720"/>
          </a:xfrm>
          <a:custGeom>
            <a:avLst/>
            <a:gdLst>
              <a:gd name="textAreaLeft" fmla="*/ 39600 w 612720"/>
              <a:gd name="textAreaRight" fmla="*/ 573120 w 612720"/>
              <a:gd name="textAreaTop" fmla="*/ 39600 h 612720"/>
              <a:gd name="textAreaBottom" fmla="*/ 573120 h 6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rId3" action="ppaction://hlinksldjump"/>
          </p:cNvPr>
          <p:cNvSpPr/>
          <p:nvPr/>
        </p:nvSpPr>
        <p:spPr>
          <a:xfrm>
            <a:off x="1258920" y="2276640"/>
            <a:ext cx="649080" cy="610920"/>
          </a:xfrm>
          <a:custGeom>
            <a:avLst/>
            <a:gdLst>
              <a:gd name="textAreaLeft" fmla="*/ 39600 w 649080"/>
              <a:gd name="textAreaRight" fmla="*/ 609480 w 649080"/>
              <a:gd name="textAreaTop" fmla="*/ 39600 h 610920"/>
              <a:gd name="textAreaBottom" fmla="*/ 571320 h 610920"/>
            </a:gdLst>
            <a:ahLst/>
            <a:rect l="textAreaLeft" t="textAreaTop" r="textAreaRight" b="textAreaBottom"/>
            <a:pathLst>
              <a:path w="22948" h="21600">
                <a:moveTo>
                  <a:pt x="0" y="0"/>
                </a:moveTo>
                <a:lnTo>
                  <a:pt x="22948" y="0"/>
                </a:lnTo>
                <a:lnTo>
                  <a:pt x="22948" y="21600"/>
                </a:lnTo>
                <a:lnTo>
                  <a:pt x="0" y="21600"/>
                </a:lnTo>
                <a:close/>
              </a:path>
              <a:path fill="lightenLess" w="22948" h="21600">
                <a:moveTo>
                  <a:pt x="0" y="0"/>
                </a:moveTo>
                <a:lnTo>
                  <a:pt x="22948" y="0"/>
                </a:lnTo>
                <a:lnTo>
                  <a:pt x="21548" y="1400"/>
                </a:lnTo>
                <a:lnTo>
                  <a:pt x="1400" y="1400"/>
                </a:lnTo>
                <a:close/>
              </a:path>
              <a:path fill="darken" w="22948" h="21600">
                <a:moveTo>
                  <a:pt x="22948" y="0"/>
                </a:moveTo>
                <a:lnTo>
                  <a:pt x="22948" y="21600"/>
                </a:lnTo>
                <a:lnTo>
                  <a:pt x="21548" y="20200"/>
                </a:lnTo>
                <a:lnTo>
                  <a:pt x="21548" y="1400"/>
                </a:lnTo>
                <a:close/>
              </a:path>
              <a:path fill="darkenLess" w="22948" h="21600">
                <a:moveTo>
                  <a:pt x="22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48" y="20200"/>
                </a:lnTo>
                <a:close/>
              </a:path>
              <a:path fill="lighten" w="22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rId4" action="ppaction://hlinksldjump"/>
          </p:cNvPr>
          <p:cNvSpPr/>
          <p:nvPr/>
        </p:nvSpPr>
        <p:spPr>
          <a:xfrm>
            <a:off x="1258920" y="3068640"/>
            <a:ext cx="609480" cy="6112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11280"/>
              <a:gd name="textAreaBottom" fmla="*/ 572040 h 611280"/>
            </a:gdLst>
            <a:ahLst/>
            <a:rect l="textAreaLeft" t="textAreaTop" r="textAreaRight" b="textAreaBottom"/>
            <a:pathLst>
              <a:path w="21600" h="21664">
                <a:moveTo>
                  <a:pt x="0" y="0"/>
                </a:moveTo>
                <a:lnTo>
                  <a:pt x="21600" y="0"/>
                </a:lnTo>
                <a:lnTo>
                  <a:pt x="21600" y="21664"/>
                </a:lnTo>
                <a:lnTo>
                  <a:pt x="0" y="21664"/>
                </a:lnTo>
                <a:close/>
              </a:path>
              <a:path fill="lightenLess" w="21600" h="216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4">
                <a:moveTo>
                  <a:pt x="21600" y="0"/>
                </a:moveTo>
                <a:lnTo>
                  <a:pt x="21600" y="21664"/>
                </a:lnTo>
                <a:lnTo>
                  <a:pt x="20200" y="20264"/>
                </a:lnTo>
                <a:lnTo>
                  <a:pt x="20200" y="1400"/>
                </a:lnTo>
                <a:close/>
              </a:path>
              <a:path fill="darkenLess" w="21600" h="21664">
                <a:moveTo>
                  <a:pt x="21600" y="21664"/>
                </a:moveTo>
                <a:lnTo>
                  <a:pt x="0" y="21664"/>
                </a:lnTo>
                <a:lnTo>
                  <a:pt x="1400" y="20264"/>
                </a:lnTo>
                <a:lnTo>
                  <a:pt x="20200" y="20264"/>
                </a:lnTo>
                <a:close/>
              </a:path>
              <a:path fill="lighten" w="21600" h="21664">
                <a:moveTo>
                  <a:pt x="0" y="216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4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5" action="ppaction://hlinksldjump"/>
          </p:cNvPr>
          <p:cNvSpPr/>
          <p:nvPr/>
        </p:nvSpPr>
        <p:spPr>
          <a:xfrm>
            <a:off x="1258920" y="4869000"/>
            <a:ext cx="682560" cy="682560"/>
          </a:xfrm>
          <a:custGeom>
            <a:avLst/>
            <a:gdLst>
              <a:gd name="textAreaLeft" fmla="*/ 43920 w 682560"/>
              <a:gd name="textAreaRight" fmla="*/ 638640 w 68256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6" action="ppaction://hlinksldjump"/>
          </p:cNvPr>
          <p:cNvSpPr/>
          <p:nvPr/>
        </p:nvSpPr>
        <p:spPr>
          <a:xfrm>
            <a:off x="7956720" y="5589720"/>
            <a:ext cx="826920" cy="755640"/>
          </a:xfrm>
          <a:custGeom>
            <a:avLst/>
            <a:gdLst>
              <a:gd name="textAreaLeft" fmla="*/ 48960 w 826920"/>
              <a:gd name="textAreaRight" fmla="*/ 777960 w 82692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23637" h="21600">
                <a:moveTo>
                  <a:pt x="0" y="0"/>
                </a:moveTo>
                <a:lnTo>
                  <a:pt x="23637" y="0"/>
                </a:lnTo>
                <a:lnTo>
                  <a:pt x="23637" y="21600"/>
                </a:lnTo>
                <a:lnTo>
                  <a:pt x="0" y="21600"/>
                </a:lnTo>
                <a:close/>
              </a:path>
              <a:path fill="lightenLess" w="23637" h="21600">
                <a:moveTo>
                  <a:pt x="0" y="0"/>
                </a:moveTo>
                <a:lnTo>
                  <a:pt x="23637" y="0"/>
                </a:lnTo>
                <a:lnTo>
                  <a:pt x="22237" y="1400"/>
                </a:lnTo>
                <a:lnTo>
                  <a:pt x="1400" y="1400"/>
                </a:lnTo>
                <a:close/>
              </a:path>
              <a:path fill="darken" w="23637" h="21600">
                <a:moveTo>
                  <a:pt x="23637" y="0"/>
                </a:moveTo>
                <a:lnTo>
                  <a:pt x="23637" y="21600"/>
                </a:lnTo>
                <a:lnTo>
                  <a:pt x="22237" y="20200"/>
                </a:lnTo>
                <a:lnTo>
                  <a:pt x="22237" y="1400"/>
                </a:lnTo>
                <a:close/>
              </a:path>
              <a:path fill="darkenLess" w="23637" h="21600">
                <a:moveTo>
                  <a:pt x="23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37" y="20200"/>
                </a:lnTo>
                <a:close/>
              </a:path>
              <a:path fill="lighten" w="23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37" h="21600">
                <a:moveTo>
                  <a:pt x="4812" y="3794"/>
                </a:moveTo>
                <a:lnTo>
                  <a:pt x="18825" y="10800"/>
                </a:lnTo>
                <a:lnTo>
                  <a:pt x="4812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ахарный диаб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харный диабет характеризуется повышением уровня глюкозы в кров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чины возникновения диабетической стопы у больных диабетом кроются в нарушении кровоснабжения и иннервации ног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539640" y="1916280"/>
            <a:ext cx="3902040" cy="292572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957600" y="4959360"/>
            <a:ext cx="3210480" cy="45972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иабетическая сто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>
            <a:hlinkClick r:id="rId3" action="ppaction://hlinksldjump"/>
          </p:cNvPr>
          <p:cNvSpPr/>
          <p:nvPr/>
        </p:nvSpPr>
        <p:spPr>
          <a:xfrm>
            <a:off x="7956720" y="5589720"/>
            <a:ext cx="753840" cy="753840"/>
          </a:xfrm>
          <a:custGeom>
            <a:avLst/>
            <a:gdLst>
              <a:gd name="textAreaLeft" fmla="*/ 48600 w 753840"/>
              <a:gd name="textAreaRight" fmla="*/ 705240 w 753840"/>
              <a:gd name="textAreaTop" fmla="*/ 48600 h 753840"/>
              <a:gd name="textAreaBottom" fmla="*/ 705240 h 753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ормон какой железы регулирует концентрацию в крови кальция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"/>
          <p:cNvSpPr/>
          <p:nvPr/>
        </p:nvSpPr>
        <p:spPr>
          <a:xfrm>
            <a:off x="2401560" y="2749680"/>
            <a:ext cx="355500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Щитовидная желе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401560" y="3613320"/>
            <a:ext cx="436428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аращитовидная желе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366280" y="4405320"/>
            <a:ext cx="414000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желудочная желе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399760" y="5268960"/>
            <a:ext cx="232812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ипоталам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171560" y="3573360"/>
            <a:ext cx="1207800" cy="520560"/>
          </a:xfrm>
          <a:prstGeom prst="rect">
            <a:avLst/>
          </a:prstGeom>
          <a:gradFill rotWithShape="0">
            <a:gsLst>
              <a:gs pos="0">
                <a:srgbClr val="5e7359"/>
              </a:gs>
              <a:gs pos="50000">
                <a:srgbClr val="cdfac2"/>
              </a:gs>
              <a:gs pos="100000">
                <a:srgbClr val="5e735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84640" y="436572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955920" y="270828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955920" y="522936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>
            <a:hlinkClick r:id="rId2" action="ppaction://hlinksldjump"/>
          </p:cNvPr>
          <p:cNvSpPr/>
          <p:nvPr/>
        </p:nvSpPr>
        <p:spPr>
          <a:xfrm>
            <a:off x="1187280" y="3573360"/>
            <a:ext cx="609840" cy="53820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4473" h="21600">
                <a:moveTo>
                  <a:pt x="0" y="0"/>
                </a:moveTo>
                <a:lnTo>
                  <a:pt x="24473" y="0"/>
                </a:lnTo>
                <a:lnTo>
                  <a:pt x="24473" y="21600"/>
                </a:lnTo>
                <a:lnTo>
                  <a:pt x="0" y="21600"/>
                </a:lnTo>
                <a:close/>
              </a:path>
              <a:path fill="lightenLess" w="24473" h="21600">
                <a:moveTo>
                  <a:pt x="0" y="0"/>
                </a:moveTo>
                <a:lnTo>
                  <a:pt x="24473" y="0"/>
                </a:lnTo>
                <a:lnTo>
                  <a:pt x="23073" y="1400"/>
                </a:lnTo>
                <a:lnTo>
                  <a:pt x="1400" y="1400"/>
                </a:lnTo>
                <a:close/>
              </a:path>
              <a:path fill="darken" w="24473" h="21600">
                <a:moveTo>
                  <a:pt x="24473" y="0"/>
                </a:moveTo>
                <a:lnTo>
                  <a:pt x="24473" y="21600"/>
                </a:lnTo>
                <a:lnTo>
                  <a:pt x="23073" y="20200"/>
                </a:lnTo>
                <a:lnTo>
                  <a:pt x="23073" y="1400"/>
                </a:lnTo>
                <a:close/>
              </a:path>
              <a:path fill="darkenLess" w="24473" h="21600">
                <a:moveTo>
                  <a:pt x="244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3" y="20200"/>
                </a:lnTo>
                <a:close/>
              </a:path>
              <a:path fill="lighten" w="244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>
            <a:hlinkClick r:id="rId3" action="ppaction://hlinksldjump"/>
          </p:cNvPr>
          <p:cNvSpPr/>
          <p:nvPr/>
        </p:nvSpPr>
        <p:spPr>
          <a:xfrm>
            <a:off x="1187280" y="2708280"/>
            <a:ext cx="609840" cy="53820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4473" h="21600">
                <a:moveTo>
                  <a:pt x="0" y="0"/>
                </a:moveTo>
                <a:lnTo>
                  <a:pt x="24473" y="0"/>
                </a:lnTo>
                <a:lnTo>
                  <a:pt x="24473" y="21600"/>
                </a:lnTo>
                <a:lnTo>
                  <a:pt x="0" y="21600"/>
                </a:lnTo>
                <a:close/>
              </a:path>
              <a:path fill="lightenLess" w="24473" h="21600">
                <a:moveTo>
                  <a:pt x="0" y="0"/>
                </a:moveTo>
                <a:lnTo>
                  <a:pt x="24473" y="0"/>
                </a:lnTo>
                <a:lnTo>
                  <a:pt x="23073" y="1400"/>
                </a:lnTo>
                <a:lnTo>
                  <a:pt x="1400" y="1400"/>
                </a:lnTo>
                <a:close/>
              </a:path>
              <a:path fill="darken" w="24473" h="21600">
                <a:moveTo>
                  <a:pt x="24473" y="0"/>
                </a:moveTo>
                <a:lnTo>
                  <a:pt x="24473" y="21600"/>
                </a:lnTo>
                <a:lnTo>
                  <a:pt x="23073" y="20200"/>
                </a:lnTo>
                <a:lnTo>
                  <a:pt x="23073" y="1400"/>
                </a:lnTo>
                <a:close/>
              </a:path>
              <a:path fill="darkenLess" w="24473" h="21600">
                <a:moveTo>
                  <a:pt x="244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3" y="20200"/>
                </a:lnTo>
                <a:close/>
              </a:path>
              <a:path fill="lighten" w="244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>
            <a:hlinkClick r:id="rId4" action="ppaction://hlinksldjump"/>
          </p:cNvPr>
          <p:cNvSpPr/>
          <p:nvPr/>
        </p:nvSpPr>
        <p:spPr>
          <a:xfrm>
            <a:off x="1187280" y="4365720"/>
            <a:ext cx="611280" cy="538200"/>
          </a:xfrm>
          <a:custGeom>
            <a:avLst/>
            <a:gdLst>
              <a:gd name="textAreaLeft" fmla="*/ 34560 w 611280"/>
              <a:gd name="textAreaRight" fmla="*/ 576720 w 61128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4531" h="21600">
                <a:moveTo>
                  <a:pt x="0" y="0"/>
                </a:moveTo>
                <a:lnTo>
                  <a:pt x="24531" y="0"/>
                </a:lnTo>
                <a:lnTo>
                  <a:pt x="24531" y="21600"/>
                </a:lnTo>
                <a:lnTo>
                  <a:pt x="0" y="21600"/>
                </a:lnTo>
                <a:close/>
              </a:path>
              <a:path fill="lightenLess" w="24531" h="21600">
                <a:moveTo>
                  <a:pt x="0" y="0"/>
                </a:moveTo>
                <a:lnTo>
                  <a:pt x="24531" y="0"/>
                </a:lnTo>
                <a:lnTo>
                  <a:pt x="23131" y="1400"/>
                </a:lnTo>
                <a:lnTo>
                  <a:pt x="1400" y="1400"/>
                </a:lnTo>
                <a:close/>
              </a:path>
              <a:path fill="darken" w="24531" h="21600">
                <a:moveTo>
                  <a:pt x="24531" y="0"/>
                </a:moveTo>
                <a:lnTo>
                  <a:pt x="24531" y="21600"/>
                </a:lnTo>
                <a:lnTo>
                  <a:pt x="23131" y="20200"/>
                </a:lnTo>
                <a:lnTo>
                  <a:pt x="23131" y="1400"/>
                </a:lnTo>
                <a:close/>
              </a:path>
              <a:path fill="darkenLess" w="24531" h="21600">
                <a:moveTo>
                  <a:pt x="245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31" y="20200"/>
                </a:lnTo>
                <a:close/>
              </a:path>
              <a:path fill="lighten" w="245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>
            <a:hlinkClick r:id="rId5" action="ppaction://hlinksldjump"/>
          </p:cNvPr>
          <p:cNvSpPr/>
          <p:nvPr/>
        </p:nvSpPr>
        <p:spPr>
          <a:xfrm>
            <a:off x="1187280" y="5229360"/>
            <a:ext cx="611280" cy="539640"/>
          </a:xfrm>
          <a:custGeom>
            <a:avLst/>
            <a:gdLst>
              <a:gd name="textAreaLeft" fmla="*/ 34920 w 611280"/>
              <a:gd name="textAreaRight" fmla="*/ 576360 w 6112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4466" h="21600">
                <a:moveTo>
                  <a:pt x="0" y="0"/>
                </a:moveTo>
                <a:lnTo>
                  <a:pt x="24466" y="0"/>
                </a:lnTo>
                <a:lnTo>
                  <a:pt x="24466" y="21600"/>
                </a:lnTo>
                <a:lnTo>
                  <a:pt x="0" y="21600"/>
                </a:lnTo>
                <a:close/>
              </a:path>
              <a:path fill="lightenLess" w="24466" h="21600">
                <a:moveTo>
                  <a:pt x="0" y="0"/>
                </a:moveTo>
                <a:lnTo>
                  <a:pt x="24466" y="0"/>
                </a:lnTo>
                <a:lnTo>
                  <a:pt x="23066" y="1400"/>
                </a:lnTo>
                <a:lnTo>
                  <a:pt x="1400" y="1400"/>
                </a:lnTo>
                <a:close/>
              </a:path>
              <a:path fill="darken" w="24466" h="21600">
                <a:moveTo>
                  <a:pt x="24466" y="0"/>
                </a:moveTo>
                <a:lnTo>
                  <a:pt x="24466" y="21600"/>
                </a:lnTo>
                <a:lnTo>
                  <a:pt x="23066" y="20200"/>
                </a:lnTo>
                <a:lnTo>
                  <a:pt x="23066" y="1400"/>
                </a:lnTo>
                <a:close/>
              </a:path>
              <a:path fill="darkenLess" w="24466" h="21600">
                <a:moveTo>
                  <a:pt x="244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66" y="20200"/>
                </a:lnTo>
                <a:close/>
              </a:path>
              <a:path fill="lighten" w="244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4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6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307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319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8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331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0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аращитовидная жел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42728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ащитовидная железа регулирует уровень кальция в организме в узких рамках, так чтобы нервная и двигательная системы функционировали нормально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мон железы -  паратгорм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2"/>
          <a:srcRect l="0" t="4772" r="0" b="0"/>
          <a:stretch/>
        </p:blipFill>
        <p:spPr>
          <a:xfrm>
            <a:off x="468360" y="1341360"/>
            <a:ext cx="3484440" cy="431028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399960" y="5589720"/>
            <a:ext cx="4859280" cy="82548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ращитовидная железа №3 и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Щитовидная железа№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>
            <a:hlinkClick r:id="rId3" action="ppaction://hlinksldjump"/>
          </p:cNvPr>
          <p:cNvSpPr/>
          <p:nvPr/>
        </p:nvSpPr>
        <p:spPr>
          <a:xfrm>
            <a:off x="8101080" y="5805360"/>
            <a:ext cx="609480" cy="53820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4459" h="21600">
                <a:moveTo>
                  <a:pt x="0" y="0"/>
                </a:moveTo>
                <a:lnTo>
                  <a:pt x="24459" y="0"/>
                </a:lnTo>
                <a:lnTo>
                  <a:pt x="24459" y="21600"/>
                </a:lnTo>
                <a:lnTo>
                  <a:pt x="0" y="21600"/>
                </a:lnTo>
                <a:close/>
              </a:path>
              <a:path fill="lightenLess" w="24459" h="21600">
                <a:moveTo>
                  <a:pt x="0" y="0"/>
                </a:moveTo>
                <a:lnTo>
                  <a:pt x="24459" y="0"/>
                </a:lnTo>
                <a:lnTo>
                  <a:pt x="23059" y="1400"/>
                </a:lnTo>
                <a:lnTo>
                  <a:pt x="1400" y="1400"/>
                </a:lnTo>
                <a:close/>
              </a:path>
              <a:path fill="darken" w="24459" h="21600">
                <a:moveTo>
                  <a:pt x="24459" y="0"/>
                </a:moveTo>
                <a:lnTo>
                  <a:pt x="24459" y="21600"/>
                </a:lnTo>
                <a:lnTo>
                  <a:pt x="23059" y="20200"/>
                </a:lnTo>
                <a:lnTo>
                  <a:pt x="23059" y="1400"/>
                </a:lnTo>
                <a:close/>
              </a:path>
              <a:path fill="darkenLess" w="24459" h="21600">
                <a:moveTo>
                  <a:pt x="244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59" y="20200"/>
                </a:lnTo>
                <a:close/>
              </a:path>
              <a:path fill="lighten" w="244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59" h="21600">
                <a:moveTo>
                  <a:pt x="5223" y="10800"/>
                </a:moveTo>
                <a:lnTo>
                  <a:pt x="19236" y="3794"/>
                </a:lnTo>
                <a:lnTo>
                  <a:pt x="1923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Щитовидная жел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шает возбудимость нервной системы, регулирует обмен веществ. Не влияет на содержание кальция в кров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ндеми́ческ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об — увеличение щитовидной железы, связанное с дефицитом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йо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среде обит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2"/>
          <a:srcRect l="25044" t="16554" r="18816" b="13468"/>
          <a:stretch/>
        </p:blipFill>
        <p:spPr>
          <a:xfrm>
            <a:off x="826920" y="1413000"/>
            <a:ext cx="3230640" cy="4895640"/>
          </a:xfrm>
          <a:prstGeom prst="rect">
            <a:avLst/>
          </a:prstGeom>
          <a:ln w="0">
            <a:noFill/>
          </a:ln>
        </p:spPr>
      </p:pic>
      <p:sp>
        <p:nvSpPr>
          <p:cNvPr id="344" name="">
            <a:hlinkClick r:id="rId3" action="ppaction://hlinksldjump"/>
          </p:cNvPr>
          <p:cNvSpPr/>
          <p:nvPr/>
        </p:nvSpPr>
        <p:spPr>
          <a:xfrm>
            <a:off x="8028000" y="5734080"/>
            <a:ext cx="755640" cy="611280"/>
          </a:xfrm>
          <a:custGeom>
            <a:avLst/>
            <a:gdLst>
              <a:gd name="textAreaLeft" fmla="*/ 39600 w 755640"/>
              <a:gd name="textAreaRight" fmla="*/ 716040 w 75564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6698" h="21600">
                <a:moveTo>
                  <a:pt x="0" y="0"/>
                </a:moveTo>
                <a:lnTo>
                  <a:pt x="26698" y="0"/>
                </a:lnTo>
                <a:lnTo>
                  <a:pt x="26698" y="21600"/>
                </a:lnTo>
                <a:lnTo>
                  <a:pt x="0" y="21600"/>
                </a:lnTo>
                <a:close/>
              </a:path>
              <a:path fill="lightenLess" w="26698" h="21600">
                <a:moveTo>
                  <a:pt x="0" y="0"/>
                </a:moveTo>
                <a:lnTo>
                  <a:pt x="26698" y="0"/>
                </a:lnTo>
                <a:lnTo>
                  <a:pt x="25298" y="1400"/>
                </a:lnTo>
                <a:lnTo>
                  <a:pt x="1400" y="1400"/>
                </a:lnTo>
                <a:close/>
              </a:path>
              <a:path fill="darken" w="26698" h="21600">
                <a:moveTo>
                  <a:pt x="26698" y="0"/>
                </a:moveTo>
                <a:lnTo>
                  <a:pt x="26698" y="21600"/>
                </a:lnTo>
                <a:lnTo>
                  <a:pt x="25298" y="20200"/>
                </a:lnTo>
                <a:lnTo>
                  <a:pt x="25298" y="1400"/>
                </a:lnTo>
                <a:close/>
              </a:path>
              <a:path fill="darkenLess" w="26698" h="21600">
                <a:moveTo>
                  <a:pt x="26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98" y="20200"/>
                </a:lnTo>
                <a:close/>
              </a:path>
              <a:path fill="lighten" w="26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698" h="21600">
                <a:moveTo>
                  <a:pt x="6343" y="10800"/>
                </a:moveTo>
                <a:lnTo>
                  <a:pt x="20356" y="3794"/>
                </a:lnTo>
                <a:lnTo>
                  <a:pt x="2035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джелудочная жел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 регуляции кальция в крови не имеет отнош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динственная железа, которая синтезирует ферменты и гормоны, т.е участвует в пищеварении и регуляции обмена веществ в организм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2"/>
          <a:srcRect l="34863" t="29320" r="34863" b="41167"/>
          <a:stretch/>
        </p:blipFill>
        <p:spPr>
          <a:xfrm>
            <a:off x="826920" y="2746440"/>
            <a:ext cx="3673800" cy="268596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330480" y="1916280"/>
            <a:ext cx="1976040" cy="119124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ет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разующ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сул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411280" y="1484280"/>
            <a:ext cx="2448000" cy="82548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рабатыва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ер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43960" y="5589720"/>
            <a:ext cx="6333120" cy="45972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етки, вырабатывающие гормон глюкаг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2484000" y="4581000"/>
            <a:ext cx="71640" cy="1008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971640" y="3068640"/>
            <a:ext cx="792000" cy="1008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3924360" y="2852640"/>
            <a:ext cx="5032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708360" y="2205000"/>
            <a:ext cx="647640" cy="57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>
            <a:hlinkClick r:id="rId3" action="ppaction://hlinksldjump"/>
          </p:cNvPr>
          <p:cNvSpPr/>
          <p:nvPr/>
        </p:nvSpPr>
        <p:spPr>
          <a:xfrm>
            <a:off x="8101080" y="5734080"/>
            <a:ext cx="611280" cy="61128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457200" y="2246400"/>
            <a:ext cx="4038480" cy="3233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ипоталаму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поталамус - отдел головного мозга, расположенный ниже таламус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поталамус контролирует деятельность эндокринной системы благодаря тому, что его нейроны секретируют нейрогормоны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азопрессин)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"/>
          <p:cNvSpPr/>
          <p:nvPr/>
        </p:nvSpPr>
        <p:spPr>
          <a:xfrm>
            <a:off x="2346480" y="1916280"/>
            <a:ext cx="2021760" cy="45972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ипоталам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2555640" y="2349360"/>
            <a:ext cx="647640" cy="1656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>
            <a:hlinkClick r:id="rId3" action="ppaction://hlinksldjump"/>
          </p:cNvPr>
          <p:cNvSpPr/>
          <p:nvPr/>
        </p:nvSpPr>
        <p:spPr>
          <a:xfrm>
            <a:off x="8101080" y="5805360"/>
            <a:ext cx="611280" cy="540000"/>
          </a:xfrm>
          <a:custGeom>
            <a:avLst/>
            <a:gdLst>
              <a:gd name="textAreaLeft" fmla="*/ 34920 w 611280"/>
              <a:gd name="textAreaRight" fmla="*/ 576360 w 61128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24449" h="21600">
                <a:moveTo>
                  <a:pt x="0" y="0"/>
                </a:moveTo>
                <a:lnTo>
                  <a:pt x="24449" y="0"/>
                </a:lnTo>
                <a:lnTo>
                  <a:pt x="24449" y="21600"/>
                </a:lnTo>
                <a:lnTo>
                  <a:pt x="0" y="21600"/>
                </a:lnTo>
                <a:close/>
              </a:path>
              <a:path fill="lightenLess" w="24449" h="21600">
                <a:moveTo>
                  <a:pt x="0" y="0"/>
                </a:moveTo>
                <a:lnTo>
                  <a:pt x="24449" y="0"/>
                </a:lnTo>
                <a:lnTo>
                  <a:pt x="23049" y="1400"/>
                </a:lnTo>
                <a:lnTo>
                  <a:pt x="1400" y="1400"/>
                </a:lnTo>
                <a:close/>
              </a:path>
              <a:path fill="darken" w="24449" h="21600">
                <a:moveTo>
                  <a:pt x="24449" y="0"/>
                </a:moveTo>
                <a:lnTo>
                  <a:pt x="24449" y="21600"/>
                </a:lnTo>
                <a:lnTo>
                  <a:pt x="23049" y="20200"/>
                </a:lnTo>
                <a:lnTo>
                  <a:pt x="23049" y="1400"/>
                </a:lnTo>
                <a:close/>
              </a:path>
              <a:path fill="darkenLess" w="24449" h="21600">
                <a:moveTo>
                  <a:pt x="244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49" y="20200"/>
                </a:lnTo>
                <a:close/>
              </a:path>
              <a:path fill="lighten" w="244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49" h="21600">
                <a:moveTo>
                  <a:pt x="5218" y="10800"/>
                </a:moveTo>
                <a:lnTo>
                  <a:pt x="19231" y="3794"/>
                </a:lnTo>
                <a:lnTo>
                  <a:pt x="19231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Заголовок 1" descr=""/>
          <p:cNvPicPr/>
          <p:nvPr/>
        </p:nvPicPr>
        <p:blipFill>
          <a:blip r:embed="rId2"/>
          <a:stretch/>
        </p:blipFill>
        <p:spPr>
          <a:xfrm>
            <a:off x="420840" y="176040"/>
            <a:ext cx="8242200" cy="9144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928800" y="1428840"/>
            <a:ext cx="77580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krasdo.ucoz.ru/ee383358c499.p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/>
              </a:rPr>
              <a:t>http://www.grafamania.net/uploads/posts/2008-08/1219611582_7.jp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meddoct.ru/tag/aktg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rafaelbotello.es/mc-pituitary-glands-of-frog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www.hinsdale86.org/staff/kgabric/Disease09/Scales.Boling.Kallmann Syndrome/visualrepresentations.ht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:/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umming-carabus.livejournal.com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/60869.html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4" name="Рисунок 4" descr=""/>
          <p:cNvPicPr/>
          <p:nvPr/>
        </p:nvPicPr>
        <p:blipFill>
          <a:blip r:embed="rId12"/>
          <a:stretch/>
        </p:blipFill>
        <p:spPr>
          <a:xfrm>
            <a:off x="357120" y="1357200"/>
            <a:ext cx="595440" cy="6066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" descr="d:\Мои документы\Мои рисунки\Рисунок16.png"/>
          <p:cNvPicPr/>
          <p:nvPr/>
        </p:nvPicPr>
        <p:blipFill>
          <a:blip r:embed="rId13"/>
          <a:stretch/>
        </p:blipFill>
        <p:spPr>
          <a:xfrm>
            <a:off x="395280" y="2133720"/>
            <a:ext cx="50004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learn-another-language.org/3561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doctor24.com.ua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kakulia.okis.ru/foto.65583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http://mgyie.ru/index.php?option=com_remository&amp;Itemid=30&amp;func=select&amp;id=2&amp;orderby=4&amp;page=6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:/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medical-guru.ru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schitovidnaya-jeleza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/1871-morfologicheskie_priznaki_bazedovifikacii_2.html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http://papa-vlad.ru/photo/chelovek/_Organy-tela.files/012-Podzheludochnaja-zheleza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http://www.diagnoz-rak.info/2010/09/uzi-nadpochechnikov/?utm_source=feedburner&amp;utm_medium=feed&amp;utm_campaign=Feed:+diagnoz-rak/blog+(Esli+diagnoz+-+rak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http://www.bikemaster.ru/images/page.php?page=acromega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http://www.my-article.net/get/наука/медицина/эндокринология/акромегалия-и-гигантиз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Драгомилов А.Г.,Маш Р.Д. Биология:Человек: Учебник для учащихся 8 класса общеобразовательных учреждений.-2-е изд.,переработ. – М.:Вентана – Граф,2004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точники тек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bioword.narod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занова Е.А.,Антонова И.П., Биология человека.В таблицах и схемах. М.,200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Эндокринная систе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5280" y="508428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вокупность основных желез внутренней секреции, согласованная деятельность которых обеспечивает регуляцию функций организ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692360" y="1341360"/>
            <a:ext cx="5095800" cy="3819600"/>
          </a:xfrm>
          <a:prstGeom prst="rect">
            <a:avLst/>
          </a:prstGeom>
          <a:ln w="0">
            <a:noFill/>
          </a:ln>
        </p:spPr>
      </p:pic>
      <p:sp>
        <p:nvSpPr>
          <p:cNvPr id="117" name="">
            <a:hlinkClick r:id="rId3" action="ppaction://hlinksldjump"/>
          </p:cNvPr>
          <p:cNvSpPr/>
          <p:nvPr/>
        </p:nvSpPr>
        <p:spPr>
          <a:xfrm>
            <a:off x="8101080" y="5877000"/>
            <a:ext cx="682560" cy="538200"/>
          </a:xfrm>
          <a:custGeom>
            <a:avLst/>
            <a:gdLst>
              <a:gd name="textAreaLeft" fmla="*/ 34560 w 682560"/>
              <a:gd name="textAreaRight" fmla="*/ 648000 w 68256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7390" h="21600">
                <a:moveTo>
                  <a:pt x="0" y="0"/>
                </a:moveTo>
                <a:lnTo>
                  <a:pt x="27390" y="0"/>
                </a:lnTo>
                <a:lnTo>
                  <a:pt x="27390" y="21600"/>
                </a:lnTo>
                <a:lnTo>
                  <a:pt x="0" y="21600"/>
                </a:lnTo>
                <a:close/>
              </a:path>
              <a:path fill="lightenLess" w="27390" h="21600">
                <a:moveTo>
                  <a:pt x="0" y="0"/>
                </a:moveTo>
                <a:lnTo>
                  <a:pt x="27390" y="0"/>
                </a:lnTo>
                <a:lnTo>
                  <a:pt x="25990" y="1400"/>
                </a:lnTo>
                <a:lnTo>
                  <a:pt x="1400" y="1400"/>
                </a:lnTo>
                <a:close/>
              </a:path>
              <a:path fill="darken" w="27390" h="21600">
                <a:moveTo>
                  <a:pt x="27390" y="0"/>
                </a:moveTo>
                <a:lnTo>
                  <a:pt x="27390" y="21600"/>
                </a:lnTo>
                <a:lnTo>
                  <a:pt x="25990" y="20200"/>
                </a:lnTo>
                <a:lnTo>
                  <a:pt x="25990" y="1400"/>
                </a:lnTo>
                <a:close/>
              </a:path>
              <a:path fill="darkenLess" w="27390" h="21600">
                <a:moveTo>
                  <a:pt x="27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90" y="20200"/>
                </a:lnTo>
                <a:close/>
              </a:path>
              <a:path fill="lighten" w="27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90" h="21600">
                <a:moveTo>
                  <a:pt x="6688" y="10800"/>
                </a:moveTo>
                <a:lnTo>
                  <a:pt x="20701" y="3794"/>
                </a:lnTo>
                <a:lnTo>
                  <a:pt x="20701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Подзаголовок 2"/>
          <p:cNvSpPr/>
          <p:nvPr/>
        </p:nvSpPr>
        <p:spPr>
          <a:xfrm>
            <a:off x="1908000" y="2349360"/>
            <a:ext cx="500076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Calibri"/>
              </a:rPr>
              <a:t>Автор</a:t>
            </a:r>
            <a:r>
              <a:rPr b="1" lang="ru-RU" sz="2800" spc="-1" strike="noStrike">
                <a:solidFill>
                  <a:srgbClr val="4f6228"/>
                </a:solidFill>
                <a:latin typeface="Arial"/>
              </a:rPr>
              <a:t> шаблона</a:t>
            </a:r>
            <a:r>
              <a:rPr b="1" lang="ru-RU" sz="2800" spc="-1" strike="noStrike">
                <a:solidFill>
                  <a:srgbClr val="4f6228"/>
                </a:solidFill>
                <a:latin typeface="Calibri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Calibri"/>
              </a:rPr>
              <a:t>Ермолаева Ирина Алексе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Calibri"/>
              </a:rPr>
              <a:t>учитель информати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Calibri"/>
              </a:rPr>
              <a:t>МОУ «Павловская сош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втономная систе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вегетативная) нервная система, регулирует работу внутренних органов, желез, кровеносных сосудов и сердц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гетативные центры находятся в гипоталамус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rcRect l="14032" t="17512" r="39680" b="31294"/>
          <a:stretch/>
        </p:blipFill>
        <p:spPr>
          <a:xfrm>
            <a:off x="539640" y="3068640"/>
            <a:ext cx="3889440" cy="32259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 rot="1033200">
            <a:off x="538920" y="5373720"/>
            <a:ext cx="2025720" cy="45972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43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ипоталам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30520" y="3213000"/>
            <a:ext cx="3137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льшие полуша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01080" y="3645000"/>
            <a:ext cx="3216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межуточный моз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01800" y="4149720"/>
            <a:ext cx="2142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редний моз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66960" y="4724280"/>
            <a:ext cx="1011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М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29080" y="5229360"/>
            <a:ext cx="1579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зжеч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01800" y="5734080"/>
            <a:ext cx="3121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долговатый моз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84360" y="3573360"/>
            <a:ext cx="201636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268360" y="4148280"/>
            <a:ext cx="2519640" cy="50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556000" y="4581000"/>
            <a:ext cx="2087280" cy="28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411280" y="5013360"/>
            <a:ext cx="208944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00360" y="5734080"/>
            <a:ext cx="187164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51280" y="5300640"/>
            <a:ext cx="576360" cy="7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547640" y="4508280"/>
            <a:ext cx="720720" cy="86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rId3" action="ppaction://hlinksldjump"/>
          </p:cNvPr>
          <p:cNvSpPr/>
          <p:nvPr/>
        </p:nvSpPr>
        <p:spPr>
          <a:xfrm>
            <a:off x="8101080" y="5734080"/>
            <a:ext cx="682560" cy="609480"/>
          </a:xfrm>
          <a:custGeom>
            <a:avLst/>
            <a:gdLst>
              <a:gd name="textAreaLeft" fmla="*/ 39240 w 682560"/>
              <a:gd name="textAreaRight" fmla="*/ 643320 w 6825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Центральная нервная систе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ключает в себя головной и спинно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з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187280" y="1268280"/>
            <a:ext cx="2735280" cy="51850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916360" y="2060640"/>
            <a:ext cx="2016000" cy="1368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700360" y="3284640"/>
            <a:ext cx="2016000" cy="1152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61080" y="3159000"/>
            <a:ext cx="224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оловной моз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75320" y="4267080"/>
            <a:ext cx="21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инной моз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>
            <a:hlinkClick r:id="rId3" action="ppaction://hlinksldjump"/>
          </p:cNvPr>
          <p:cNvSpPr/>
          <p:nvPr/>
        </p:nvSpPr>
        <p:spPr>
          <a:xfrm>
            <a:off x="8101080" y="5734080"/>
            <a:ext cx="611280" cy="609480"/>
          </a:xfrm>
          <a:custGeom>
            <a:avLst/>
            <a:gdLst>
              <a:gd name="textAreaLeft" fmla="*/ 39240 w 611280"/>
              <a:gd name="textAreaRight" fmla="*/ 572040 w 6112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64" h="21600">
                <a:moveTo>
                  <a:pt x="0" y="0"/>
                </a:moveTo>
                <a:lnTo>
                  <a:pt x="21664" y="0"/>
                </a:lnTo>
                <a:lnTo>
                  <a:pt x="21664" y="21600"/>
                </a:lnTo>
                <a:lnTo>
                  <a:pt x="0" y="21600"/>
                </a:lnTo>
                <a:close/>
              </a:path>
              <a:path fill="lightenLess" w="21664" h="21600">
                <a:moveTo>
                  <a:pt x="0" y="0"/>
                </a:moveTo>
                <a:lnTo>
                  <a:pt x="21664" y="0"/>
                </a:lnTo>
                <a:lnTo>
                  <a:pt x="20264" y="1400"/>
                </a:lnTo>
                <a:lnTo>
                  <a:pt x="1400" y="1400"/>
                </a:lnTo>
                <a:close/>
              </a:path>
              <a:path fill="darken" w="21664" h="21600">
                <a:moveTo>
                  <a:pt x="21664" y="0"/>
                </a:moveTo>
                <a:lnTo>
                  <a:pt x="21664" y="21600"/>
                </a:lnTo>
                <a:lnTo>
                  <a:pt x="20264" y="20200"/>
                </a:lnTo>
                <a:lnTo>
                  <a:pt x="20264" y="1400"/>
                </a:lnTo>
                <a:close/>
              </a:path>
              <a:path fill="darkenLess" w="21664" h="21600">
                <a:moveTo>
                  <a:pt x="21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4" y="20200"/>
                </a:lnTo>
                <a:close/>
              </a:path>
              <a:path fill="lighten" w="21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4" h="21600">
                <a:moveTo>
                  <a:pt x="3825" y="10800"/>
                </a:moveTo>
                <a:lnTo>
                  <a:pt x="17838" y="3794"/>
                </a:lnTo>
                <a:lnTo>
                  <a:pt x="17838" y="17806"/>
                </a:lnTo>
                <a:close/>
              </a:path>
            </a:pathLst>
          </a:custGeom>
          <a:gradFill rotWithShape="0">
            <a:gsLst>
              <a:gs pos="0">
                <a:srgbClr val="243b57"/>
              </a:gs>
              <a:gs pos="50000">
                <a:srgbClr val="4f81bd"/>
              </a:gs>
              <a:gs pos="100000">
                <a:srgbClr val="243b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Железы внешней секреци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елезы, имеющие выводные протоки и выделяющие свои секреты на поверхность тела или в полости тел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31640" y="2421000"/>
            <a:ext cx="8208000" cy="4031280"/>
            <a:chOff x="431640" y="2421000"/>
            <a:chExt cx="8208000" cy="4031280"/>
          </a:xfrm>
        </p:grpSpPr>
        <p:cxnSp>
          <p:nvCxnSpPr>
            <p:cNvPr id="147" name="_s38931"/>
            <p:cNvCxnSpPr>
              <a:stCxn id="148" idx="0"/>
              <a:endCxn id="149" idx="2"/>
            </p:cNvCxnSpPr>
            <p:nvPr/>
          </p:nvCxnSpPr>
          <p:spPr>
            <a:xfrm flipV="1">
              <a:off x="6745320" y="4939920"/>
              <a:ext cx="5400" cy="504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0" name="_s38929"/>
            <p:cNvCxnSpPr>
              <a:stCxn id="151" idx="0"/>
              <a:endCxn id="152" idx="2"/>
            </p:cNvCxnSpPr>
            <p:nvPr/>
          </p:nvCxnSpPr>
          <p:spPr>
            <a:xfrm flipV="1">
              <a:off x="2325240" y="4939920"/>
              <a:ext cx="5400" cy="504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3" name="_s38926"/>
            <p:cNvCxnSpPr>
              <a:stCxn id="149" idx="0"/>
              <a:endCxn id="154" idx="2"/>
            </p:cNvCxnSpPr>
            <p:nvPr/>
          </p:nvCxnSpPr>
          <p:spPr>
            <a:xfrm flipV="1" rot="16200000">
              <a:off x="5388480" y="2575080"/>
              <a:ext cx="504360" cy="2210040"/>
            </a:xfrm>
            <a:prstGeom prst="bentConnector3">
              <a:avLst>
                <a:gd name="adj1" fmla="val 2264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5" name="_s38925"/>
            <p:cNvCxnSpPr>
              <a:stCxn id="152" idx="0"/>
              <a:endCxn id="154" idx="2"/>
            </p:cNvCxnSpPr>
            <p:nvPr/>
          </p:nvCxnSpPr>
          <p:spPr>
            <a:xfrm flipH="1" flipV="1" rot="5400000">
              <a:off x="3178800" y="2574720"/>
              <a:ext cx="504360" cy="2210760"/>
            </a:xfrm>
            <a:prstGeom prst="bentConnector3">
              <a:avLst>
                <a:gd name="adj1" fmla="val 2264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4" name="_s38921"/>
            <p:cNvSpPr/>
            <p:nvPr/>
          </p:nvSpPr>
          <p:spPr>
            <a:xfrm>
              <a:off x="2642040" y="2421000"/>
              <a:ext cx="3788280" cy="100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d6c67"/>
                </a:gs>
                <a:gs pos="50000">
                  <a:srgbClr val="eeece1"/>
                </a:gs>
                <a:gs pos="100000">
                  <a:srgbClr val="6d6c6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Железы внешне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секреци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38922"/>
            <p:cNvSpPr/>
            <p:nvPr/>
          </p:nvSpPr>
          <p:spPr>
            <a:xfrm>
              <a:off x="431640" y="3932640"/>
              <a:ext cx="3788280" cy="100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d6c67"/>
                </a:gs>
                <a:gs pos="50000">
                  <a:srgbClr val="eeece1"/>
                </a:gs>
                <a:gs pos="100000">
                  <a:srgbClr val="6d6c6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Протоки открываются на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поверхность  тел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38923"/>
            <p:cNvSpPr/>
            <p:nvPr/>
          </p:nvSpPr>
          <p:spPr>
            <a:xfrm>
              <a:off x="4851360" y="3932640"/>
              <a:ext cx="3788280" cy="100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d6c67"/>
                </a:gs>
                <a:gs pos="50000">
                  <a:srgbClr val="eeece1"/>
                </a:gs>
                <a:gs pos="100000">
                  <a:srgbClr val="6d6c6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Протоки открываютс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в полости тел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38928"/>
            <p:cNvSpPr/>
            <p:nvPr/>
          </p:nvSpPr>
          <p:spPr>
            <a:xfrm>
              <a:off x="431640" y="5444640"/>
              <a:ext cx="3788280" cy="100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d6c67"/>
                </a:gs>
                <a:gs pos="50000">
                  <a:srgbClr val="eeece1"/>
                </a:gs>
                <a:gs pos="100000">
                  <a:srgbClr val="6d6c6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Потовые, сальные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слезные, полов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38930"/>
            <p:cNvSpPr/>
            <p:nvPr/>
          </p:nvSpPr>
          <p:spPr>
            <a:xfrm>
              <a:off x="4851360" y="5444640"/>
              <a:ext cx="3788280" cy="100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d6c67"/>
                </a:gs>
                <a:gs pos="50000">
                  <a:srgbClr val="eeece1"/>
                </a:gs>
                <a:gs pos="100000">
                  <a:srgbClr val="6d6c6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Слюнные, печень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поджелудочная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кишечника, желуд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>
            <a:hlinkClick r:id="rId2" action="ppaction://hlinksldjump"/>
          </p:cNvPr>
          <p:cNvSpPr/>
          <p:nvPr/>
        </p:nvSpPr>
        <p:spPr>
          <a:xfrm>
            <a:off x="7885080" y="3141720"/>
            <a:ext cx="684360" cy="682560"/>
          </a:xfrm>
          <a:custGeom>
            <a:avLst/>
            <a:gdLst>
              <a:gd name="textAreaLeft" fmla="*/ 43920 w 684360"/>
              <a:gd name="textAreaRight" fmla="*/ 640440 w 68436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1657" h="21600">
                <a:moveTo>
                  <a:pt x="0" y="0"/>
                </a:moveTo>
                <a:lnTo>
                  <a:pt x="21657" y="0"/>
                </a:lnTo>
                <a:lnTo>
                  <a:pt x="21657" y="21600"/>
                </a:lnTo>
                <a:lnTo>
                  <a:pt x="0" y="21600"/>
                </a:lnTo>
                <a:close/>
              </a:path>
              <a:path fill="lightenLess" w="21657" h="21600">
                <a:moveTo>
                  <a:pt x="0" y="0"/>
                </a:moveTo>
                <a:lnTo>
                  <a:pt x="21657" y="0"/>
                </a:lnTo>
                <a:lnTo>
                  <a:pt x="20257" y="1400"/>
                </a:lnTo>
                <a:lnTo>
                  <a:pt x="1400" y="1400"/>
                </a:lnTo>
                <a:close/>
              </a:path>
              <a:path fill="darken" w="21657" h="21600">
                <a:moveTo>
                  <a:pt x="21657" y="0"/>
                </a:moveTo>
                <a:lnTo>
                  <a:pt x="21657" y="21600"/>
                </a:lnTo>
                <a:lnTo>
                  <a:pt x="20257" y="20200"/>
                </a:lnTo>
                <a:lnTo>
                  <a:pt x="20257" y="1400"/>
                </a:lnTo>
                <a:close/>
              </a:path>
              <a:path fill="darkenLess" w="21657" h="21600">
                <a:moveTo>
                  <a:pt x="216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7" y="20200"/>
                </a:lnTo>
                <a:close/>
              </a:path>
              <a:path fill="lighten" w="216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7" h="21600">
                <a:moveTo>
                  <a:pt x="3822" y="10800"/>
                </a:moveTo>
                <a:lnTo>
                  <a:pt x="17835" y="3794"/>
                </a:lnTo>
                <a:lnTo>
                  <a:pt x="17835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Железы внутренней секре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елезы, не имеющие выводных протоков и выделяющие, вырабатываемые ими гормоны непосредственно в кров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95280" y="3213000"/>
            <a:ext cx="3452760" cy="2836080"/>
            <a:chOff x="395280" y="3213000"/>
            <a:chExt cx="3452760" cy="2836080"/>
          </a:xfrm>
        </p:grpSpPr>
        <p:grpSp>
          <p:nvGrpSpPr>
            <p:cNvPr id="160" name=""/>
            <p:cNvGrpSpPr/>
            <p:nvPr/>
          </p:nvGrpSpPr>
          <p:grpSpPr>
            <a:xfrm>
              <a:off x="395280" y="3213000"/>
              <a:ext cx="3452760" cy="2836080"/>
              <a:chOff x="395280" y="3213000"/>
              <a:chExt cx="3452760" cy="2836080"/>
            </a:xfrm>
          </p:grpSpPr>
          <p:grpSp>
            <p:nvGrpSpPr>
              <p:cNvPr id="161" name=""/>
              <p:cNvGrpSpPr/>
              <p:nvPr/>
            </p:nvGrpSpPr>
            <p:grpSpPr>
              <a:xfrm>
                <a:off x="395280" y="3213000"/>
                <a:ext cx="3452760" cy="2836080"/>
                <a:chOff x="395280" y="3213000"/>
                <a:chExt cx="3452760" cy="283608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95280" y="3213000"/>
                  <a:ext cx="3452760" cy="2836080"/>
                  <a:chOff x="395280" y="3213000"/>
                  <a:chExt cx="3452760" cy="2836080"/>
                </a:xfrm>
              </p:grpSpPr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213000"/>
                    <a:ext cx="3452760" cy="26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4" name=""/>
                  <p:cNvSpPr/>
                  <p:nvPr/>
                </p:nvSpPr>
                <p:spPr>
                  <a:xfrm>
                    <a:off x="689400" y="5589360"/>
                    <a:ext cx="1297800" cy="459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d6c67"/>
                      </a:gs>
                      <a:gs pos="50000">
                        <a:srgbClr val="eeece1"/>
                      </a:gs>
                      <a:gs pos="100000">
                        <a:srgbClr val="6d6c67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Эпифиз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2274120" y="5589360"/>
                  <a:ext cx="1412280" cy="459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6d6c67"/>
                    </a:gs>
                    <a:gs pos="50000">
                      <a:srgbClr val="eeece1"/>
                    </a:gs>
                    <a:gs pos="100000">
                      <a:srgbClr val="6d6c67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Гипофиз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"/>
              <p:cNvSpPr/>
              <p:nvPr/>
            </p:nvSpPr>
            <p:spPr>
              <a:xfrm flipH="1" flipV="1">
                <a:off x="1906200" y="4652640"/>
                <a:ext cx="1800" cy="936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 flipH="1" flipV="1">
              <a:off x="2410920" y="5373360"/>
              <a:ext cx="43164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5292720" y="2637000"/>
            <a:ext cx="1224000" cy="36734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4145760" y="5516640"/>
            <a:ext cx="1052280" cy="45972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им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82840" y="2997360"/>
            <a:ext cx="1959120" cy="45972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Щитовид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5660640"/>
            <a:ext cx="503280" cy="144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59280" y="3429000"/>
            <a:ext cx="576360" cy="431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451200" y="4653000"/>
            <a:ext cx="2404080" cy="155700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ещ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желудоч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дпочеч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rId4" action="ppaction://hlinksldjump"/>
          </p:cNvPr>
          <p:cNvSpPr/>
          <p:nvPr/>
        </p:nvSpPr>
        <p:spPr>
          <a:xfrm>
            <a:off x="7885080" y="3860640"/>
            <a:ext cx="827280" cy="648000"/>
          </a:xfrm>
          <a:custGeom>
            <a:avLst/>
            <a:gdLst>
              <a:gd name="textAreaLeft" fmla="*/ 41760 w 827280"/>
              <a:gd name="textAreaRight" fmla="*/ 785520 w 82728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7573" h="21600">
                <a:moveTo>
                  <a:pt x="0" y="0"/>
                </a:moveTo>
                <a:lnTo>
                  <a:pt x="27573" y="0"/>
                </a:lnTo>
                <a:lnTo>
                  <a:pt x="27573" y="21600"/>
                </a:lnTo>
                <a:lnTo>
                  <a:pt x="0" y="21600"/>
                </a:lnTo>
                <a:close/>
              </a:path>
              <a:path fill="lightenLess" w="27573" h="21600">
                <a:moveTo>
                  <a:pt x="0" y="0"/>
                </a:moveTo>
                <a:lnTo>
                  <a:pt x="27573" y="0"/>
                </a:lnTo>
                <a:lnTo>
                  <a:pt x="26173" y="1400"/>
                </a:lnTo>
                <a:lnTo>
                  <a:pt x="1400" y="1400"/>
                </a:lnTo>
                <a:close/>
              </a:path>
              <a:path fill="darken" w="27573" h="21600">
                <a:moveTo>
                  <a:pt x="27573" y="0"/>
                </a:moveTo>
                <a:lnTo>
                  <a:pt x="27573" y="21600"/>
                </a:lnTo>
                <a:lnTo>
                  <a:pt x="26173" y="20200"/>
                </a:lnTo>
                <a:lnTo>
                  <a:pt x="26173" y="1400"/>
                </a:lnTo>
                <a:close/>
              </a:path>
              <a:path fill="darkenLess" w="27573" h="21600">
                <a:moveTo>
                  <a:pt x="275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173" y="20200"/>
                </a:lnTo>
                <a:close/>
              </a:path>
              <a:path fill="lighten" w="275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573" h="21600">
                <a:moveTo>
                  <a:pt x="6780" y="10800"/>
                </a:moveTo>
                <a:lnTo>
                  <a:pt x="20793" y="3794"/>
                </a:lnTo>
                <a:lnTo>
                  <a:pt x="20793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rcRect l="0" t="0" r="0" b="12084"/>
          <a:stretch/>
        </p:blipFill>
        <p:spPr>
          <a:xfrm>
            <a:off x="4211640" y="3500280"/>
            <a:ext cx="3924360" cy="277668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Железы смешанной секре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елезы имеющие выводные протоки и выделяющие секреты как в полости тела, так и непосредственно в кров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то: половые желез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желудочная желе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/>
          <p:nvPr/>
        </p:nvSpPr>
        <p:spPr>
          <a:xfrm>
            <a:off x="3851280" y="3716280"/>
            <a:ext cx="1584360" cy="649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3" action="ppaction://hlinksldjump"/>
          </p:cNvPr>
          <p:cNvSpPr/>
          <p:nvPr/>
        </p:nvSpPr>
        <p:spPr>
          <a:xfrm>
            <a:off x="7956720" y="5661000"/>
            <a:ext cx="682560" cy="682560"/>
          </a:xfrm>
          <a:custGeom>
            <a:avLst/>
            <a:gdLst>
              <a:gd name="textAreaLeft" fmla="*/ 43920 w 682560"/>
              <a:gd name="textAreaRight" fmla="*/ 638640 w 68256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2T07:30:24Z</dcterms:created>
  <dc:creator>Comp</dc:creator>
  <dc:description/>
  <dc:language>en-US</dc:language>
  <cp:lastModifiedBy>Василий</cp:lastModifiedBy>
  <dcterms:modified xsi:type="dcterms:W3CDTF">2011-10-18T14:54:26Z</dcterms:modified>
  <cp:revision>77</cp:revision>
  <dc:subject/>
  <dc:title>Слайд 1</dc:title>
</cp:coreProperties>
</file>